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38E-D87F-477E-9412-693F2F72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B62-8580-472E-80A1-877E95B0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30A-7F08-4418-AC42-CF07C381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4A6-3A4D-4A0D-882F-31AE72A2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591-4D3C-4E03-9B05-63C27533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C29-913A-4E9E-BAAF-2F282E4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F84-BB4A-4ACA-9694-F8257CC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E0C-9474-43F8-8916-1901791D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CA7-F4EA-4061-80F3-DB9D9BFF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414-5C9F-41BC-9905-200CF22B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8CC-515C-4D24-9031-8ECFBDD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A03-4E85-4224-9C07-B2E32A3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CB4-75ED-41F2-8C55-28E28CA42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68520" y="765000"/>
            <a:ext cx="3168000" cy="2663640"/>
            <a:chOff x="3368520" y="765000"/>
            <a:chExt cx="3168000" cy="2663640"/>
          </a:xfrm>
        </p:grpSpPr>
        <p:sp>
          <p:nvSpPr>
            <p:cNvPr id="42" name=""/>
            <p:cNvSpPr/>
            <p:nvPr/>
          </p:nvSpPr>
          <p:spPr>
            <a:xfrm>
              <a:off x="3950280" y="1603800"/>
              <a:ext cx="1819080" cy="1257480"/>
            </a:xfrm>
            <a:prstGeom prst="rect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68520" y="2826000"/>
              <a:ext cx="1242720" cy="60264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G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5032800" y="2960280"/>
              <a:ext cx="1503720" cy="45792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ora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1280" y="765000"/>
              <a:ext cx="1671480" cy="2653200"/>
            </a:xfrm>
            <a:custGeom>
              <a:avLst/>
              <a:gdLst/>
              <a:ahLst/>
              <a:rect l="l" t="t" r="r" b="b"/>
              <a:pathLst>
                <a:path w="339" h="702">
                  <a:moveTo>
                    <a:pt x="132" y="178"/>
                  </a:moveTo>
                  <a:lnTo>
                    <a:pt x="0" y="437"/>
                  </a:lnTo>
                  <a:lnTo>
                    <a:pt x="220" y="438"/>
                  </a:lnTo>
                  <a:lnTo>
                    <a:pt x="151" y="582"/>
                  </a:lnTo>
                  <a:lnTo>
                    <a:pt x="190" y="581"/>
                  </a:lnTo>
                  <a:lnTo>
                    <a:pt x="162" y="636"/>
                  </a:lnTo>
                  <a:lnTo>
                    <a:pt x="160" y="635"/>
                  </a:lnTo>
                  <a:lnTo>
                    <a:pt x="156" y="606"/>
                  </a:lnTo>
                  <a:lnTo>
                    <a:pt x="125" y="606"/>
                  </a:lnTo>
                  <a:lnTo>
                    <a:pt x="150" y="702"/>
                  </a:lnTo>
                  <a:lnTo>
                    <a:pt x="339" y="364"/>
                  </a:lnTo>
                  <a:lnTo>
                    <a:pt x="119" y="364"/>
                  </a:lnTo>
                  <a:lnTo>
                    <a:pt x="210" y="176"/>
                  </a:lnTo>
                  <a:lnTo>
                    <a:pt x="264" y="177"/>
                  </a:lnTo>
                  <a:lnTo>
                    <a:pt x="252" y="135"/>
                  </a:lnTo>
                  <a:lnTo>
                    <a:pt x="190" y="136"/>
                  </a:lnTo>
                  <a:lnTo>
                    <a:pt x="207" y="106"/>
                  </a:lnTo>
                  <a:lnTo>
                    <a:pt x="246" y="106"/>
                  </a:lnTo>
                  <a:lnTo>
                    <a:pt x="244" y="78"/>
                  </a:lnTo>
                  <a:lnTo>
                    <a:pt x="220" y="77"/>
                  </a:lnTo>
                  <a:lnTo>
                    <a:pt x="231" y="54"/>
                  </a:lnTo>
                  <a:lnTo>
                    <a:pt x="264" y="56"/>
                  </a:lnTo>
                  <a:lnTo>
                    <a:pt x="281" y="18"/>
                  </a:lnTo>
                  <a:lnTo>
                    <a:pt x="227" y="20"/>
                  </a:lnTo>
                  <a:lnTo>
                    <a:pt x="223" y="0"/>
                  </a:lnTo>
                  <a:lnTo>
                    <a:pt x="97" y="178"/>
                  </a:lnTo>
                  <a:lnTo>
                    <a:pt x="132" y="17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68920" y="802080"/>
              <a:ext cx="776520" cy="60048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C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8640" y="847440"/>
              <a:ext cx="761760" cy="60300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593100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6600" y="3862440"/>
            <a:ext cx="8640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PROGRAMUL DE RETEHNOLOGIZARE SI DEZVOLTARE LA CET 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9880" y="6311880"/>
            <a:ext cx="237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embru COGEN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1942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ONSUMUL DE CARBUNE IN URMATORII 20 A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3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6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067040" y="1125360"/>
              <a:ext cx="8565840" cy="4287960"/>
              <a:chOff x="1067040" y="1125360"/>
              <a:chExt cx="8565840" cy="4287960"/>
            </a:xfrm>
          </p:grpSpPr>
          <p:sp>
            <p:nvSpPr>
              <p:cNvPr id="1959" name=""/>
              <p:cNvSpPr/>
              <p:nvPr/>
            </p:nvSpPr>
            <p:spPr>
              <a:xfrm>
                <a:off x="1830240" y="428148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830240" y="36306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830240" y="2968560"/>
                <a:ext cx="5720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830240" y="231624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30240" y="16542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1829880" y="1341360"/>
                <a:ext cx="1800" cy="36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79480" y="49449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79480" y="4281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79480" y="36306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79480" y="2968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79480" y="23162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9480" y="1654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0240" y="4944960"/>
                <a:ext cx="57150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18302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1146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23986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268272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29797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2637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5481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8322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4114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43988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4695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49798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6428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5483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8323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61167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6400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6697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981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73160" y="1863720"/>
                <a:ext cx="5434200" cy="1833480"/>
              </a:xfrm>
              <a:custGeom>
                <a:avLst/>
                <a:gdLst/>
                <a:ahLst/>
                <a:rect l="l" t="t" r="r" b="b"/>
                <a:pathLst>
                  <a:path w="421" h="166">
                    <a:moveTo>
                      <a:pt x="0" y="53"/>
                    </a:moveTo>
                    <a:lnTo>
                      <a:pt x="22" y="53"/>
                    </a:lnTo>
                    <a:lnTo>
                      <a:pt x="44" y="166"/>
                    </a:lnTo>
                    <a:lnTo>
                      <a:pt x="67" y="14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7" y="0"/>
                    </a:lnTo>
                    <a:lnTo>
                      <a:pt x="199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99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40160" y="4513320"/>
                <a:ext cx="4867200" cy="1440"/>
              </a:xfrm>
              <a:custGeom>
                <a:avLst/>
                <a:gdLst/>
                <a:ahLst/>
                <a:rect l="l" t="t" r="r" b="b"/>
                <a:pathLst>
                  <a:path w="377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8" y="0"/>
                    </a:lnTo>
                    <a:lnTo>
                      <a:pt x="200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3" y="0"/>
                    </a:lnTo>
                    <a:lnTo>
                      <a:pt x="355" y="0"/>
                    </a:lnTo>
                    <a:lnTo>
                      <a:pt x="377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11000" y="4856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158120" y="4194000"/>
                <a:ext cx="506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7040" y="35416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7040" y="28796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67040" y="222876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067040" y="15652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8900000">
                <a:off x="15454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8900000">
                <a:off x="211392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8900000">
                <a:off x="269496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8900000">
                <a:off x="326340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8900000">
                <a:off x="3830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8900000">
                <a:off x="4411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8900000">
                <a:off x="497952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8900000">
                <a:off x="554760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8900000">
                <a:off x="6116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8900000">
                <a:off x="6697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905600" y="3645000"/>
                <a:ext cx="1580040" cy="444960"/>
                <a:chOff x="7905600" y="3645000"/>
                <a:chExt cx="1580040" cy="4449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905600" y="374472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344800" y="3645000"/>
                  <a:ext cx="114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Consum Lig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905600" y="397656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346240" y="3876480"/>
                  <a:ext cx="1119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sum Hui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7761240" y="3500280"/>
                <a:ext cx="1871640" cy="720720"/>
              </a:xfrm>
              <a:prstGeom prst="rect">
                <a:avLst/>
              </a:prstGeom>
              <a:noFill/>
              <a:ln w="158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39800" y="1125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T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74040" y="4869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18" name=""/>
            <p:cNvSpPr/>
            <p:nvPr/>
          </p:nvSpPr>
          <p:spPr>
            <a:xfrm>
              <a:off x="631800" y="333360"/>
              <a:ext cx="878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MONITORIZARE EMISII DE CO</a:t>
              </a:r>
              <a:r>
                <a:rPr b="1" lang="en-US" sz="22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033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703440" y="981000"/>
              <a:ext cx="9073800" cy="5085000"/>
              <a:chOff x="703440" y="981000"/>
              <a:chExt cx="9073800" cy="508500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703440" y="981000"/>
                <a:ext cx="9073800" cy="4318200"/>
                <a:chOff x="703440" y="981000"/>
                <a:chExt cx="9073800" cy="431820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6392880" y="3141720"/>
                  <a:ext cx="3384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misie CO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n “Planul National de Alocare” pentru CET Gov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383160" y="2171880"/>
                  <a:ext cx="3024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zerva de alocare pentru instalatii no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,000,000 t pe 5 an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05000" y="2298600"/>
                  <a:ext cx="3956040" cy="9572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398600" y="443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398600" y="385452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398600" y="326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98600" y="267336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398600" y="2087640"/>
                  <a:ext cx="4816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3836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44152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243240" y="3213000"/>
                  <a:ext cx="326880" cy="181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044960" y="3021120"/>
                  <a:ext cx="325440" cy="2003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84812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5164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398600" y="1341000"/>
                  <a:ext cx="3240" cy="3683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349280" y="502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349280" y="443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349280" y="385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1349280" y="326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49280" y="267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49280" y="2087640"/>
                  <a:ext cx="493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349280" y="150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395360" y="5024520"/>
                  <a:ext cx="4915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39860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201760" y="5024160"/>
                  <a:ext cx="18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30052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3807000" y="5024160"/>
                  <a:ext cx="288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61016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54118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161040" y="4989600"/>
                  <a:ext cx="3240" cy="79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87640" y="4933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90920" y="4348080"/>
                  <a:ext cx="45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3440" y="37638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3440" y="31780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3440" y="25830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03440" y="199692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03440" y="14144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324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4264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2299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03308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8348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6365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384200" y="3267000"/>
                  <a:ext cx="50817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205000" y="2289240"/>
                  <a:ext cx="40305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0500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16104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9580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35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527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05600" y="2295360"/>
                  <a:ext cx="3603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20880" y="981000"/>
                  <a:ext cx="115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ne CO</a:t>
                  </a:r>
                  <a:r>
                    <a:rPr b="1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/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321600" y="4869000"/>
                  <a:ext cx="431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34080" y="2852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35908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08600" y="30592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5600880" y="5516640"/>
                <a:ext cx="39607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t certificate emisii 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ca 25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nalitati lipsa drepturi de emisii 100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94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ERTIFICATE VERZ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9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10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1279080" y="1380960"/>
              <a:ext cx="8249760" cy="4569480"/>
              <a:chOff x="1279080" y="1380960"/>
              <a:chExt cx="8249760" cy="456948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6896160" y="2997360"/>
                <a:ext cx="2632680" cy="500760"/>
                <a:chOff x="6896160" y="2997360"/>
                <a:chExt cx="2632680" cy="50076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6896160" y="3090960"/>
                  <a:ext cx="347760" cy="85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896160" y="3394080"/>
                  <a:ext cx="36180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029360" y="33577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362360" y="3284640"/>
                  <a:ext cx="2166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ERTIFICATE VERZI (C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363800" y="2997360"/>
                  <a:ext cx="1622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ERGIE LIVR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1279080" y="1380960"/>
                <a:ext cx="6147000" cy="4569480"/>
                <a:chOff x="1279080" y="1380960"/>
                <a:chExt cx="6147000" cy="456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24200" y="4397400"/>
                  <a:ext cx="30924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687760" y="4397400"/>
                  <a:ext cx="29520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438360" y="4216320"/>
                  <a:ext cx="30816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202280" y="4216320"/>
                  <a:ext cx="29520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951440" y="3549600"/>
                  <a:ext cx="307800" cy="20844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715000" y="2216160"/>
                  <a:ext cx="295200" cy="341784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697040" y="1668600"/>
                  <a:ext cx="1440" cy="39654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643040" y="563400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643040" y="525780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643040" y="48704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643040" y="44942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643040" y="41194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643040" y="37432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643040" y="335592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43040" y="29797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643040" y="26035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643040" y="22161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643040" y="18399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697040" y="5634000"/>
                  <a:ext cx="45403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9704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6060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320976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397368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72428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548784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623736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237360" y="1839960"/>
                  <a:ext cx="1440" cy="37940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184800" y="563400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184800" y="5160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184800" y="468792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6184800" y="421632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184800" y="37432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6184800" y="32590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184800" y="278604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184800" y="231300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84800" y="1839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071800" y="2082960"/>
                  <a:ext cx="3790800" cy="343044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0" y="283"/>
                      </a:moveTo>
                      <a:lnTo>
                        <a:pt x="57" y="264"/>
                      </a:lnTo>
                      <a:lnTo>
                        <a:pt x="113" y="240"/>
                      </a:lnTo>
                      <a:lnTo>
                        <a:pt x="170" y="219"/>
                      </a:lnTo>
                      <a:lnTo>
                        <a:pt x="226" y="156"/>
                      </a:lnTo>
                      <a:lnTo>
                        <a:pt x="283" y="0"/>
                      </a:ln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031840" y="54770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5760" y="5246640"/>
                  <a:ext cx="80640" cy="7164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44920" y="49546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308480" y="47005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059440" y="39369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823000" y="2046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469160" y="5537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374840" y="51609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374840" y="47736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374840" y="4397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374840" y="40226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279080" y="364644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279080" y="32590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279080" y="28828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279080" y="25066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279080" y="21193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279080" y="17431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87704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71640" y="55371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71640" y="5064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371640" y="45910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6371640" y="41194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371640" y="364644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371280" y="316224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71280" y="268920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71280" y="221616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371280" y="174312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5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427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1848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93920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73156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554120" y="1380960"/>
                  <a:ext cx="844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MW livra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99680" y="1528920"/>
                  <a:ext cx="1526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MW energie verd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7323480" y="4076640"/>
                <a:ext cx="1549080" cy="1067760"/>
                <a:chOff x="7323480" y="4076640"/>
                <a:chExt cx="1549080" cy="10677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7367760" y="4076640"/>
                  <a:ext cx="13190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t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 – 42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323480" y="4717800"/>
                  <a:ext cx="1549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enalitati lipsa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3 – 84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193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EVALUARE COSTU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20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488880" y="981000"/>
              <a:ext cx="8921880" cy="4824360"/>
              <a:chOff x="488880" y="981000"/>
              <a:chExt cx="8921880" cy="4824360"/>
            </a:xfrm>
          </p:grpSpPr>
          <p:sp>
            <p:nvSpPr>
              <p:cNvPr id="2210" name=""/>
              <p:cNvSpPr/>
              <p:nvPr/>
            </p:nvSpPr>
            <p:spPr>
              <a:xfrm>
                <a:off x="495360" y="5318280"/>
                <a:ext cx="95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267760" y="50148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88160" y="50148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4920" y="50148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49360" y="50148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 cheltuie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5360" y="50148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267760" y="47116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88160" y="47116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14920" y="47116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9360" y="47116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iectare, consultanta Management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5360" y="47116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267760" y="440856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88160" y="440856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4920" y="440856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49360" y="440856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bilitare sistem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95360" y="440856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67760" y="41054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88160" y="41054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14920" y="41054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9360" y="41054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preparare AF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5360" y="41054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267760" y="380196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88160" y="380196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4920" y="380196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449360" y="380196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a statiei de tratare chi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95360" y="380196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267760" y="34988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88160" y="34988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614920" y="34988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449360" y="34988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stemul de racire tehnolog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5360" y="34988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67760" y="319572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8160" y="319572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4920" y="319572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49360" y="319572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turbine exis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95360" y="319572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267760" y="28926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88160" y="28926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614920" y="28926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449360" y="28926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lare turbine n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5360" y="28926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267760" y="258912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88160" y="258912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4920" y="258912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449360" y="258912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ospodarie carb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360" y="258912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267760" y="22860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788160" y="22860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614920" y="22860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9360" y="22860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ozite de cenu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5360" y="22860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67760" y="19828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88160" y="19828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614920" y="19828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49360" y="19828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rofiltre si desulfur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95360" y="19828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67760" y="16794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88160" y="16794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614920" y="16794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449360" y="16794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caza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5360" y="16794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760" y="13762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788160" y="13762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icien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788160" y="981000"/>
                <a:ext cx="2622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meniu de aplicabili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14920" y="981000"/>
                <a:ext cx="1173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lioane EU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9360" y="981000"/>
                <a:ext cx="41655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umire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95360" y="981000"/>
                <a:ext cx="954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95360" y="981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5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107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5360" y="16794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49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1492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7881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7760" y="1376280"/>
                <a:ext cx="0" cy="3942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88160" y="1376280"/>
                <a:ext cx="2622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5360" y="19828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95360" y="2286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95360" y="25891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95360" y="28926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95360" y="31957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95360" y="34988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95360" y="38019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95360" y="41054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95360" y="44085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5360" y="47116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360" y="50148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95360" y="53182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673600" y="5373720"/>
                <a:ext cx="100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4052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3760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8888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"/>
          <p:cNvGrpSpPr/>
          <p:nvPr/>
        </p:nvGrpSpPr>
        <p:grpSpPr>
          <a:xfrm>
            <a:off x="-9360" y="503280"/>
            <a:ext cx="9905040" cy="6948000"/>
            <a:chOff x="-9360" y="503280"/>
            <a:chExt cx="9905040" cy="6948000"/>
          </a:xfrm>
        </p:grpSpPr>
        <p:sp>
          <p:nvSpPr>
            <p:cNvPr id="2303" name=""/>
            <p:cNvSpPr/>
            <p:nvPr/>
          </p:nvSpPr>
          <p:spPr>
            <a:xfrm>
              <a:off x="163440" y="503280"/>
              <a:ext cx="878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SCHEMA  DE  FINANTARE  PROIE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-9360" y="1916280"/>
              <a:ext cx="9905040" cy="5535000"/>
              <a:chOff x="-9360" y="1916280"/>
              <a:chExt cx="9905040" cy="5535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825840" y="1916280"/>
                <a:ext cx="3841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</a:rPr>
                  <a:t>TOTAL INVESTITIE 150 mil 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"/>
              <p:cNvGrpSpPr/>
              <p:nvPr/>
            </p:nvGrpSpPr>
            <p:grpSpPr>
              <a:xfrm>
                <a:off x="684360" y="2421000"/>
                <a:ext cx="3635280" cy="2795400"/>
                <a:chOff x="684360" y="2421000"/>
                <a:chExt cx="3635280" cy="27954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2714760" y="2421000"/>
                  <a:ext cx="1027080" cy="109692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88" y="95"/>
                      </a:moveTo>
                      <a:cubicBezTo>
                        <a:pt x="88" y="93"/>
                        <a:pt x="89" y="91"/>
                        <a:pt x="89" y="89"/>
                      </a:cubicBezTo>
                      <a:cubicBezTo>
                        <a:pt x="89" y="40"/>
                        <a:pt x="49" y="1"/>
                        <a:pt x="0" y="1"/>
                      </a:cubicBezTo>
                      <a:cubicBezTo>
                        <a:pt x="0" y="0"/>
                        <a:pt x="0" y="1"/>
                        <a:pt x="0" y="1"/>
                      </a:cubicBezTo>
                      <a:lnTo>
                        <a:pt x="0" y="89"/>
                      </a:lnTo>
                      <a:lnTo>
                        <a:pt x="88" y="95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784600" y="3678120"/>
                  <a:ext cx="1015920" cy="371520"/>
                </a:xfrm>
                <a:custGeom>
                  <a:avLst/>
                  <a:gdLst/>
                  <a:ahLst/>
                  <a:rect l="l" t="t" r="r" b="b"/>
                  <a:pathLst>
                    <a:path w="88" h="32">
                      <a:moveTo>
                        <a:pt x="83" y="32"/>
                      </a:moveTo>
                      <a:cubicBezTo>
                        <a:pt x="86" y="23"/>
                        <a:pt x="88" y="15"/>
                        <a:pt x="88" y="6"/>
                      </a:cubicBez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714760" y="3805200"/>
                  <a:ext cx="958680" cy="96048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30" y="83"/>
                      </a:moveTo>
                      <a:cubicBezTo>
                        <a:pt x="54" y="75"/>
                        <a:pt x="73" y="56"/>
                        <a:pt x="83" y="32"/>
                      </a:cubicBezTo>
                      <a:lnTo>
                        <a:pt x="0" y="0"/>
                      </a:lnTo>
                      <a:lnTo>
                        <a:pt x="30" y="8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1814400" y="3876840"/>
                  <a:ext cx="1016280" cy="1015920"/>
                </a:xfrm>
                <a:custGeom>
                  <a:avLst/>
                  <a:gdLst/>
                  <a:ahLst/>
                  <a:rect l="l" t="t" r="r" b="b"/>
                  <a:pathLst>
                    <a:path w="88" h="88">
                      <a:moveTo>
                        <a:pt x="0" y="67"/>
                      </a:moveTo>
                      <a:cubicBezTo>
                        <a:pt x="16" y="81"/>
                        <a:pt x="37" y="88"/>
                        <a:pt x="58" y="88"/>
                      </a:cubicBezTo>
                      <a:cubicBezTo>
                        <a:pt x="68" y="88"/>
                        <a:pt x="78" y="87"/>
                        <a:pt x="88" y="83"/>
                      </a:cubicBezTo>
                      <a:lnTo>
                        <a:pt x="58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317600" y="3759120"/>
                  <a:ext cx="993960" cy="77472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0" y="21"/>
                      </a:moveTo>
                      <a:cubicBezTo>
                        <a:pt x="4" y="39"/>
                        <a:pt x="14" y="55"/>
                        <a:pt x="28" y="67"/>
                      </a:cubicBezTo>
                      <a:lnTo>
                        <a:pt x="8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260360" y="3657600"/>
                  <a:ext cx="1016280" cy="241200"/>
                </a:xfrm>
                <a:custGeom>
                  <a:avLst/>
                  <a:gdLst/>
                  <a:ahLst/>
                  <a:rect l="l" t="t" r="r" b="b"/>
                  <a:pathLst>
                    <a:path w="88" h="21">
                      <a:moveTo>
                        <a:pt x="0" y="2"/>
                      </a:moveTo>
                      <a:cubicBezTo>
                        <a:pt x="0" y="9"/>
                        <a:pt x="1" y="15"/>
                        <a:pt x="2" y="21"/>
                      </a:cubicBezTo>
                      <a:lnTo>
                        <a:pt x="8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317600" y="2433600"/>
                  <a:ext cx="1027080" cy="1038240"/>
                </a:xfrm>
                <a:custGeom>
                  <a:avLst/>
                  <a:gdLst/>
                  <a:ahLst/>
                  <a:rect l="l" t="t" r="r" b="b"/>
                  <a:pathLst>
                    <a:path w="89" h="90">
                      <a:moveTo>
                        <a:pt x="89" y="0"/>
                      </a:moveTo>
                      <a:cubicBezTo>
                        <a:pt x="40" y="0"/>
                        <a:pt x="1" y="39"/>
                        <a:pt x="1" y="88"/>
                      </a:cubicBezTo>
                      <a:cubicBezTo>
                        <a:pt x="0" y="89"/>
                        <a:pt x="1" y="90"/>
                        <a:pt x="1" y="90"/>
                      </a:cubicBezTo>
                      <a:lnTo>
                        <a:pt x="89" y="8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10160" y="263700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25800" y="378936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565440" y="451008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130480" y="4941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7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19000" y="436104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 %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84360" y="371808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7080" y="2709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894200" y="2708280"/>
                <a:ext cx="3918240" cy="2232720"/>
                <a:chOff x="4894200" y="2708280"/>
                <a:chExt cx="3918240" cy="223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94200" y="2725560"/>
                  <a:ext cx="179280" cy="1796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150160" y="2708280"/>
                  <a:ext cx="357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lung (intre 5 si 15 ani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4200" y="3062160"/>
                  <a:ext cx="179280" cy="17964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153040" y="3044880"/>
                  <a:ext cx="276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scurt (1 an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94200" y="3398760"/>
                  <a:ext cx="179280" cy="179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57720" y="3381480"/>
                  <a:ext cx="187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arteneriat public priva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894200" y="3733920"/>
                  <a:ext cx="179280" cy="179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154840" y="3718080"/>
                  <a:ext cx="2699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protectia mediulu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894200" y="4070520"/>
                  <a:ext cx="179280" cy="1792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153040" y="4054320"/>
                  <a:ext cx="3027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reabilitare termofic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894200" y="4406760"/>
                  <a:ext cx="179280" cy="179640"/>
                </a:xfrm>
                <a:prstGeom prst="rect">
                  <a:avLst/>
                </a:prstGeom>
                <a:solidFill>
                  <a:srgbClr val="ff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152680" y="4390920"/>
                  <a:ext cx="3659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Guvernamentale pentru CET Gov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894200" y="4743360"/>
                  <a:ext cx="179280" cy="179640"/>
                </a:xfrm>
                <a:prstGeom prst="rect">
                  <a:avLst/>
                </a:prstGeom>
                <a:solidFill>
                  <a:srgbClr val="00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159520" y="4727520"/>
                  <a:ext cx="1431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fit si amortizar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-9360" y="6232680"/>
                  <a:ext cx="9905040" cy="1218600"/>
                  <a:chOff x="-9360" y="6232680"/>
                  <a:chExt cx="9905040" cy="12186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-9360" y="6232680"/>
                    <a:ext cx="990504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ff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216160" y="6232680"/>
                    <a:ext cx="1093680" cy="121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560" y="6235560"/>
                    <a:ext cx="2779200" cy="609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963360" y="6308640"/>
                    <a:ext cx="160272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200" spc="-1" strike="noStrike">
                        <a:solidFill>
                          <a:srgbClr val="339933"/>
                        </a:solidFill>
                        <a:latin typeface="Arial Black"/>
                      </a:rPr>
                      <a:t>CET Govor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455680" y="6308640"/>
                    <a:ext cx="1311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339933"/>
                        </a:solidFill>
                        <a:latin typeface="Arial"/>
                      </a:rPr>
                      <a:t>Noiembrie 200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100440" y="6270480"/>
                    <a:ext cx="646920" cy="533520"/>
                    <a:chOff x="100440" y="6270480"/>
                    <a:chExt cx="646920" cy="5335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219240" y="6438240"/>
                      <a:ext cx="371520" cy="251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8200"/>
                        </a:gs>
                        <a:gs pos="100000">
                          <a:srgbClr val="00008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8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"/>
                    <p:cNvSpPr txBox="1"/>
                    <p:nvPr/>
                  </p:nvSpPr>
                  <p:spPr>
                    <a:xfrm>
                      <a:off x="100440" y="6683400"/>
                      <a:ext cx="25380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Go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440280" y="6710400"/>
                      <a:ext cx="307080" cy="9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5000" bIns="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ora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235800" y="6270480"/>
                      <a:ext cx="341640" cy="53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702">
                          <a:moveTo>
                            <a:pt x="132" y="178"/>
                          </a:moveTo>
                          <a:lnTo>
                            <a:pt x="0" y="437"/>
                          </a:lnTo>
                          <a:lnTo>
                            <a:pt x="220" y="438"/>
                          </a:lnTo>
                          <a:lnTo>
                            <a:pt x="151" y="582"/>
                          </a:lnTo>
                          <a:lnTo>
                            <a:pt x="190" y="581"/>
                          </a:lnTo>
                          <a:lnTo>
                            <a:pt x="162" y="636"/>
                          </a:lnTo>
                          <a:lnTo>
                            <a:pt x="160" y="635"/>
                          </a:lnTo>
                          <a:lnTo>
                            <a:pt x="156" y="606"/>
                          </a:lnTo>
                          <a:lnTo>
                            <a:pt x="125" y="606"/>
                          </a:lnTo>
                          <a:lnTo>
                            <a:pt x="150" y="702"/>
                          </a:lnTo>
                          <a:lnTo>
                            <a:pt x="339" y="364"/>
                          </a:lnTo>
                          <a:lnTo>
                            <a:pt x="119" y="364"/>
                          </a:lnTo>
                          <a:lnTo>
                            <a:pt x="210" y="176"/>
                          </a:lnTo>
                          <a:lnTo>
                            <a:pt x="264" y="177"/>
                          </a:lnTo>
                          <a:lnTo>
                            <a:pt x="252" y="135"/>
                          </a:lnTo>
                          <a:lnTo>
                            <a:pt x="190" y="136"/>
                          </a:lnTo>
                          <a:lnTo>
                            <a:pt x="207" y="106"/>
                          </a:lnTo>
                          <a:lnTo>
                            <a:pt x="246" y="106"/>
                          </a:lnTo>
                          <a:lnTo>
                            <a:pt x="244" y="78"/>
                          </a:lnTo>
                          <a:lnTo>
                            <a:pt x="220" y="77"/>
                          </a:lnTo>
                          <a:lnTo>
                            <a:pt x="231" y="54"/>
                          </a:lnTo>
                          <a:lnTo>
                            <a:pt x="264" y="56"/>
                          </a:lnTo>
                          <a:lnTo>
                            <a:pt x="281" y="18"/>
                          </a:lnTo>
                          <a:lnTo>
                            <a:pt x="227" y="20"/>
                          </a:lnTo>
                          <a:lnTo>
                            <a:pt x="223" y="0"/>
                          </a:lnTo>
                          <a:lnTo>
                            <a:pt x="97" y="178"/>
                          </a:lnTo>
                          <a:lnTo>
                            <a:pt x="132" y="1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2600" dir="54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 txBox="1"/>
                    <p:nvPr/>
                  </p:nvSpPr>
                  <p:spPr>
                    <a:xfrm>
                      <a:off x="202680" y="6277680"/>
                      <a:ext cx="158400" cy="1202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C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535680" y="6287040"/>
                      <a:ext cx="15552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T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sp>
              <p:nvSpPr>
                <p:cNvPr id="2350" name=""/>
                <p:cNvSpPr/>
                <p:nvPr/>
              </p:nvSpPr>
              <p:spPr>
                <a:xfrm>
                  <a:off x="3475800" y="62913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-9360" y="2600280"/>
            <a:ext cx="9905040" cy="4851000"/>
            <a:chOff x="-9360" y="2600280"/>
            <a:chExt cx="9905040" cy="4851000"/>
          </a:xfrm>
        </p:grpSpPr>
        <p:grpSp>
          <p:nvGrpSpPr>
            <p:cNvPr id="2352" name=""/>
            <p:cNvGrpSpPr/>
            <p:nvPr/>
          </p:nvGrpSpPr>
          <p:grpSpPr>
            <a:xfrm>
              <a:off x="2822040" y="2600280"/>
              <a:ext cx="4347360" cy="1282680"/>
              <a:chOff x="2822040" y="2600280"/>
              <a:chExt cx="4347360" cy="1282680"/>
            </a:xfrm>
          </p:grpSpPr>
          <p:sp>
            <p:nvSpPr>
              <p:cNvPr id="2353" name=""/>
              <p:cNvSpPr/>
              <p:nvPr/>
            </p:nvSpPr>
            <p:spPr>
              <a:xfrm>
                <a:off x="2822040" y="2600280"/>
                <a:ext cx="43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Va multumim pentru atentia acordata 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56640" y="3514680"/>
                <a:ext cx="348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Director General Mihai BAL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549360"/>
            <a:ext cx="9905040" cy="6901920"/>
            <a:chOff x="-9360" y="549360"/>
            <a:chExt cx="9905040" cy="6901920"/>
          </a:xfrm>
        </p:grpSpPr>
        <p:sp>
          <p:nvSpPr>
            <p:cNvPr id="52" name=""/>
            <p:cNvSpPr/>
            <p:nvPr/>
          </p:nvSpPr>
          <p:spPr>
            <a:xfrm>
              <a:off x="776160" y="549360"/>
              <a:ext cx="8640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OBIECTIVE MAJO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1755720"/>
              <a:ext cx="8424720" cy="33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ACOPERIRE INTEGRALA PIATA LOCALA DE ENERGI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FUNCTIONARE SIGURA SI EFICIENTA PENTRU URMATORII 20 DE AN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RESPECTAREA NORMELOR DE MEDIU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SATISFACTIE CLIENTI SI ANGAJA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0160" y="189000"/>
            <a:ext cx="9581400" cy="6153120"/>
            <a:chOff x="200160" y="189000"/>
            <a:chExt cx="9581400" cy="6153120"/>
          </a:xfrm>
        </p:grpSpPr>
        <p:sp>
          <p:nvSpPr>
            <p:cNvPr id="70" name=""/>
            <p:cNvSpPr/>
            <p:nvPr/>
          </p:nvSpPr>
          <p:spPr>
            <a:xfrm>
              <a:off x="272880" y="18900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ACTUALA (INAINTE DE PROGRAMUL DE DEZVOLTA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0160" y="642960"/>
              <a:ext cx="9581400" cy="5699160"/>
              <a:chOff x="200160" y="642960"/>
              <a:chExt cx="9581400" cy="56991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185920" y="2290680"/>
                <a:ext cx="531360" cy="805680"/>
                <a:chOff x="2185920" y="2290680"/>
                <a:chExt cx="531360" cy="8056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185920" y="2290680"/>
                  <a:ext cx="531360" cy="414000"/>
                  <a:chOff x="2185920" y="2290680"/>
                  <a:chExt cx="531360" cy="414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1859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050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251080" y="2703240"/>
                  <a:ext cx="412560" cy="393120"/>
                  <a:chOff x="2251080" y="2703240"/>
                  <a:chExt cx="412560" cy="39312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24555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22539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2510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24494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4588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1928880" y="3117960"/>
                <a:ext cx="7183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2174760" y="1079640"/>
                <a:ext cx="560160" cy="1217520"/>
                <a:chOff x="2174760" y="1079640"/>
                <a:chExt cx="560160" cy="12175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1747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860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192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01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301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2174760" y="1241640"/>
                  <a:ext cx="216000" cy="215640"/>
                  <a:chOff x="2174760" y="1241640"/>
                  <a:chExt cx="216000" cy="2156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1747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22204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191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519280" y="1241640"/>
                  <a:ext cx="215640" cy="215640"/>
                  <a:chOff x="2519280" y="1241640"/>
                  <a:chExt cx="215640" cy="2156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5192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25650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32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22860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301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H="1">
                <a:off x="1280880" y="21099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11240" y="2109960"/>
                <a:ext cx="264960" cy="360360"/>
                <a:chOff x="1911240" y="2109960"/>
                <a:chExt cx="264960" cy="3603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173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9112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38520" y="2290680"/>
                <a:ext cx="531360" cy="805680"/>
                <a:chOff x="3638520" y="2290680"/>
                <a:chExt cx="531360" cy="8056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638520" y="2290680"/>
                  <a:ext cx="531360" cy="414000"/>
                  <a:chOff x="3638520" y="2290680"/>
                  <a:chExt cx="531360" cy="414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6385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76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703680" y="2703240"/>
                  <a:ext cx="412560" cy="393120"/>
                  <a:chOff x="3703680" y="2703240"/>
                  <a:chExt cx="412560" cy="39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9081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37065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036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39020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9114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627360" y="1079640"/>
                <a:ext cx="560160" cy="1217520"/>
                <a:chOff x="3627360" y="1079640"/>
                <a:chExt cx="560160" cy="1217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73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86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718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827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386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827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627360" y="1241640"/>
                  <a:ext cx="216000" cy="215640"/>
                  <a:chOff x="3627360" y="1241640"/>
                  <a:chExt cx="216000" cy="215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273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36730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7717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971880" y="1241640"/>
                  <a:ext cx="215640" cy="215640"/>
                  <a:chOff x="3971880" y="1241640"/>
                  <a:chExt cx="215640" cy="2156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9718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40176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1158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37386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27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63840" y="2109960"/>
                <a:ext cx="264960" cy="360360"/>
                <a:chOff x="3363840" y="2109960"/>
                <a:chExt cx="264960" cy="360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699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638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H="1">
                <a:off x="2342880" y="2109960"/>
                <a:ext cx="215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03240" y="21099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782880" y="21099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143240" y="21099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54640" y="2290680"/>
                <a:ext cx="531360" cy="805680"/>
                <a:chOff x="5354640" y="2290680"/>
                <a:chExt cx="531360" cy="8056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54640" y="2290680"/>
                  <a:ext cx="531360" cy="414000"/>
                  <a:chOff x="5354640" y="2290680"/>
                  <a:chExt cx="531360" cy="4140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3546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737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419800" y="2703240"/>
                  <a:ext cx="412560" cy="393120"/>
                  <a:chOff x="5419800" y="2703240"/>
                  <a:chExt cx="412560" cy="393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6242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54226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198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56181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6275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5343480" y="1079640"/>
                <a:ext cx="560160" cy="1217520"/>
                <a:chOff x="5343480" y="1079640"/>
                <a:chExt cx="560160" cy="1217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4348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5472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00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888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5472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9888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343480" y="1241640"/>
                  <a:ext cx="216000" cy="215640"/>
                  <a:chOff x="5343480" y="1241640"/>
                  <a:chExt cx="216000" cy="2156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34348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53892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784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688000" y="1241640"/>
                  <a:ext cx="215640" cy="215640"/>
                  <a:chOff x="5688000" y="1241640"/>
                  <a:chExt cx="215640" cy="215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68800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573372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320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45472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888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79960" y="2109960"/>
                <a:ext cx="264960" cy="360360"/>
                <a:chOff x="5079960" y="2109960"/>
                <a:chExt cx="264960" cy="3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8608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07996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991800" y="10875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23880" y="900000"/>
                <a:ext cx="360360" cy="360360"/>
                <a:chOff x="623880" y="900000"/>
                <a:chExt cx="360360" cy="360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9696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88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89640" y="900000"/>
                <a:ext cx="360360" cy="360360"/>
                <a:chOff x="4589640" y="900000"/>
                <a:chExt cx="360360" cy="3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6272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8964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730680" y="10875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83120" y="1087560"/>
                <a:ext cx="827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9440" y="2290680"/>
                <a:ext cx="531360" cy="805680"/>
                <a:chOff x="6859440" y="2290680"/>
                <a:chExt cx="531360" cy="8056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859440" y="2290680"/>
                  <a:ext cx="531360" cy="414000"/>
                  <a:chOff x="6859440" y="2290680"/>
                  <a:chExt cx="531360" cy="414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8594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8785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924600" y="2703240"/>
                  <a:ext cx="412560" cy="393120"/>
                  <a:chOff x="6924600" y="2703240"/>
                  <a:chExt cx="412560" cy="393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71290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69274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46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71229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1323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8310600" y="2290680"/>
                <a:ext cx="531360" cy="805680"/>
                <a:chOff x="8310600" y="2290680"/>
                <a:chExt cx="531360" cy="8056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8310600" y="2290680"/>
                  <a:ext cx="531360" cy="414000"/>
                  <a:chOff x="8310600" y="2290680"/>
                  <a:chExt cx="531360" cy="41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1060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32968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375760" y="2703240"/>
                  <a:ext cx="412560" cy="393120"/>
                  <a:chOff x="8375760" y="2703240"/>
                  <a:chExt cx="412560" cy="393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58024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>
                    <a:off x="837864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7576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857412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8348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7670880" y="1547640"/>
                <a:ext cx="360360" cy="360360"/>
                <a:chOff x="7670880" y="1547640"/>
                <a:chExt cx="360360" cy="3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743960" y="162072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70880" y="154764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711828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089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597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52160" y="40132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160" y="45496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5280" y="28544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61960" y="37576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61960" y="42991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52160" y="555624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61960" y="52974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240" y="62056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52160" y="6205680"/>
                <a:ext cx="237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719160" y="6060960"/>
                <a:ext cx="359280" cy="269640"/>
                <a:chOff x="3719160" y="6060960"/>
                <a:chExt cx="359280" cy="26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19520" y="6060960"/>
                  <a:ext cx="35892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719160" y="606096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461960" y="591804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9100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880" y="181116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916440" y="3036960"/>
                <a:ext cx="891720" cy="3133800"/>
                <a:chOff x="3916440" y="3036960"/>
                <a:chExt cx="891720" cy="3133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916440" y="3036960"/>
                  <a:ext cx="891720" cy="3133800"/>
                  <a:chOff x="3916440" y="3036960"/>
                  <a:chExt cx="891720" cy="3133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V="1">
                    <a:off x="418932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916440" y="3036960"/>
                    <a:ext cx="891720" cy="685440"/>
                    <a:chOff x="3916440" y="3036960"/>
                    <a:chExt cx="891720" cy="685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8596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0188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3916440" y="3036960"/>
                      <a:ext cx="579600" cy="685440"/>
                      <a:chOff x="3916440" y="3036960"/>
                      <a:chExt cx="579600" cy="68544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920760" y="3290760"/>
                        <a:ext cx="575280" cy="431640"/>
                        <a:chOff x="3920760" y="3290760"/>
                        <a:chExt cx="575280" cy="43164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92076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392076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2076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49604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91644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400680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1893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498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98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98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98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954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629320" y="3036960"/>
                <a:ext cx="891720" cy="3133800"/>
                <a:chOff x="5629320" y="3036960"/>
                <a:chExt cx="891720" cy="31338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629320" y="3036960"/>
                  <a:ext cx="891720" cy="3133800"/>
                  <a:chOff x="5629320" y="3036960"/>
                  <a:chExt cx="891720" cy="313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V="1">
                    <a:off x="590220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29320" y="3036960"/>
                    <a:ext cx="891720" cy="685440"/>
                    <a:chOff x="5629320" y="3036960"/>
                    <a:chExt cx="891720" cy="6854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1988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147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629320" y="3036960"/>
                      <a:ext cx="579600" cy="685440"/>
                      <a:chOff x="5629320" y="3036960"/>
                      <a:chExt cx="579600" cy="68544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5633640" y="3290760"/>
                        <a:ext cx="575280" cy="431640"/>
                        <a:chOff x="5633640" y="3290760"/>
                        <a:chExt cx="575280" cy="431640"/>
                      </a:xfrm>
                    </p:grpSpPr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56336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56336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6336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62089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56293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7196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02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62118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2118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2118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2118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673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28000" y="3036960"/>
                <a:ext cx="1194840" cy="3133800"/>
                <a:chOff x="7128000" y="3036960"/>
                <a:chExt cx="1194840" cy="3133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128000" y="3036960"/>
                  <a:ext cx="1194840" cy="3133800"/>
                  <a:chOff x="7128000" y="3036960"/>
                  <a:chExt cx="1194840" cy="3133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V="1">
                    <a:off x="738216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128000" y="3036960"/>
                    <a:ext cx="891720" cy="685440"/>
                    <a:chOff x="7128000" y="3036960"/>
                    <a:chExt cx="891720" cy="6854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9752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81344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128000" y="3036960"/>
                      <a:ext cx="579600" cy="685440"/>
                      <a:chOff x="7128000" y="3036960"/>
                      <a:chExt cx="579600" cy="685440"/>
                    </a:xfrm>
                  </p:grpSpPr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7132320" y="3290760"/>
                        <a:ext cx="575280" cy="431640"/>
                        <a:chOff x="7132320" y="3290760"/>
                        <a:chExt cx="575280" cy="4316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713232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V="1">
                          <a:off x="713232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713232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770760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2800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721836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38216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75582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558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582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5582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826400" y="3721320"/>
                    <a:ext cx="496440" cy="187200"/>
                    <a:chOff x="7826400" y="3721320"/>
                    <a:chExt cx="496440" cy="187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82640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7905600" y="3757680"/>
                      <a:ext cx="417240" cy="117360"/>
                      <a:chOff x="7905600" y="3757680"/>
                      <a:chExt cx="417240" cy="1173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90560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0992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790992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90992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4" name=""/>
                  <p:cNvSpPr/>
                  <p:nvPr/>
                </p:nvSpPr>
                <p:spPr>
                  <a:xfrm flipV="1">
                    <a:off x="771048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70580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718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8586720" y="3036960"/>
                <a:ext cx="1194840" cy="3133800"/>
                <a:chOff x="8586720" y="3036960"/>
                <a:chExt cx="1194840" cy="31338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8586720" y="3036960"/>
                  <a:ext cx="1194840" cy="3133800"/>
                  <a:chOff x="8586720" y="3036960"/>
                  <a:chExt cx="1194840" cy="3133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884088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586720" y="3036960"/>
                    <a:ext cx="891720" cy="685440"/>
                    <a:chOff x="8586720" y="3036960"/>
                    <a:chExt cx="891720" cy="6854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562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2721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8586720" y="3036960"/>
                      <a:ext cx="579600" cy="685440"/>
                      <a:chOff x="8586720" y="3036960"/>
                      <a:chExt cx="579600" cy="68544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8591040" y="3290760"/>
                        <a:ext cx="575280" cy="431640"/>
                        <a:chOff x="8591040" y="3290760"/>
                        <a:chExt cx="575280" cy="4316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V="1">
                          <a:off x="85910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V="1">
                          <a:off x="85910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85910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91663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85867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86770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84088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9016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9016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016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016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9285120" y="3721320"/>
                    <a:ext cx="496440" cy="187200"/>
                    <a:chOff x="9285120" y="3721320"/>
                    <a:chExt cx="496440" cy="1872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28512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9364320" y="3757680"/>
                      <a:ext cx="417240" cy="117360"/>
                      <a:chOff x="9364320" y="3757680"/>
                      <a:chExt cx="417240" cy="1173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936432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936864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936864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936864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3" name=""/>
                  <p:cNvSpPr/>
                  <p:nvPr/>
                </p:nvSpPr>
                <p:spPr>
                  <a:xfrm flipV="1">
                    <a:off x="916920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16452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62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0160" y="15066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zgura si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7520" y="6429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1240" y="642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83400" y="1316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99360" y="4559400"/>
                <a:ext cx="20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249720" y="6083280"/>
                <a:ext cx="258480" cy="258840"/>
                <a:chOff x="3249720" y="6083280"/>
                <a:chExt cx="258480" cy="258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249720" y="6083280"/>
                  <a:ext cx="258480" cy="2588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297240" y="6214320"/>
                  <a:ext cx="155880" cy="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72880" y="166680"/>
            <a:ext cx="9566280" cy="6357600"/>
            <a:chOff x="272880" y="166680"/>
            <a:chExt cx="9566280" cy="6357600"/>
          </a:xfrm>
        </p:grpSpPr>
        <p:sp>
          <p:nvSpPr>
            <p:cNvPr id="325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3840" y="809640"/>
              <a:ext cx="9445320" cy="5714640"/>
              <a:chOff x="393840" y="809640"/>
              <a:chExt cx="9445320" cy="57146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401920" y="2484360"/>
                <a:ext cx="531360" cy="805680"/>
                <a:chOff x="2401920" y="2484360"/>
                <a:chExt cx="531360" cy="80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2401920" y="2484360"/>
                  <a:ext cx="531360" cy="414000"/>
                  <a:chOff x="2401920" y="2484360"/>
                  <a:chExt cx="531360" cy="414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9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210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467080" y="2896920"/>
                  <a:ext cx="412560" cy="393120"/>
                  <a:chOff x="2467080" y="2896920"/>
                  <a:chExt cx="412560" cy="393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6715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24699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4670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26654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6748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208160" y="331164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90760" y="1273320"/>
                <a:ext cx="560160" cy="1217520"/>
                <a:chOff x="2390760" y="1273320"/>
                <a:chExt cx="560160" cy="121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9076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0200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3528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4616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0200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616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2390760" y="1435320"/>
                  <a:ext cx="216000" cy="215640"/>
                  <a:chOff x="2390760" y="1435320"/>
                  <a:chExt cx="216000" cy="21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9076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24364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3512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35280" y="1435320"/>
                  <a:ext cx="215640" cy="215640"/>
                  <a:chOff x="2735280" y="1435320"/>
                  <a:chExt cx="21564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3528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278100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792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50200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616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1496880" y="2303640"/>
                <a:ext cx="9129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127240" y="2303640"/>
                <a:ext cx="264960" cy="360360"/>
                <a:chOff x="2127240" y="2303640"/>
                <a:chExt cx="264960" cy="360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1333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1272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854520" y="2484360"/>
                <a:ext cx="531360" cy="805680"/>
                <a:chOff x="3854520" y="2484360"/>
                <a:chExt cx="531360" cy="80568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854520" y="2484360"/>
                  <a:ext cx="531360" cy="414000"/>
                  <a:chOff x="3854520" y="2484360"/>
                  <a:chExt cx="531360" cy="41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8545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8736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919680" y="2896920"/>
                  <a:ext cx="412560" cy="393120"/>
                  <a:chOff x="3919680" y="2896920"/>
                  <a:chExt cx="412560" cy="393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1241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9225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196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41180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274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384336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460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788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9912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5460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9912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43360" y="1434960"/>
                <a:ext cx="216000" cy="215640"/>
                <a:chOff x="3843360" y="1434960"/>
                <a:chExt cx="216000" cy="215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36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8908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8772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87880" y="1434960"/>
                <a:ext cx="216000" cy="215640"/>
                <a:chOff x="4187880" y="1434960"/>
                <a:chExt cx="216000" cy="215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8788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23360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3224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395460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9912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79840" y="2303640"/>
                <a:ext cx="264960" cy="360360"/>
                <a:chOff x="3579840" y="2303640"/>
                <a:chExt cx="264960" cy="360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5859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5798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H="1">
                <a:off x="255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19240" y="2303640"/>
                <a:ext cx="935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9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359240" y="230364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570640" y="2484360"/>
                <a:ext cx="531360" cy="805680"/>
                <a:chOff x="5570640" y="2484360"/>
                <a:chExt cx="531360" cy="80568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5570640" y="2484360"/>
                  <a:ext cx="531360" cy="414000"/>
                  <a:chOff x="5570640" y="2484360"/>
                  <a:chExt cx="531360" cy="414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55706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5897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635800" y="2896920"/>
                  <a:ext cx="412560" cy="393120"/>
                  <a:chOff x="5635800" y="2896920"/>
                  <a:chExt cx="412560" cy="393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58402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6386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6358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8341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8435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559480" y="1273320"/>
                <a:ext cx="560160" cy="1217520"/>
                <a:chOff x="5559480" y="1273320"/>
                <a:chExt cx="560160" cy="1217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55948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7072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0400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488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7072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488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5559480" y="1435320"/>
                  <a:ext cx="216000" cy="215640"/>
                  <a:chOff x="5559480" y="1435320"/>
                  <a:chExt cx="216000" cy="215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55948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6052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70384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904000" y="1435320"/>
                  <a:ext cx="215640" cy="215640"/>
                  <a:chOff x="5904000" y="1435320"/>
                  <a:chExt cx="215640" cy="215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590400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4972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0480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567072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488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5960" y="2303640"/>
                <a:ext cx="264960" cy="360360"/>
                <a:chOff x="5295960" y="2303640"/>
                <a:chExt cx="264960" cy="36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0208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29596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805280" y="1093680"/>
                <a:ext cx="360360" cy="360360"/>
                <a:chOff x="4805280" y="1093680"/>
                <a:chExt cx="36036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878360" y="1166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805280" y="1093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394668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9876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75440" y="2484360"/>
                <a:ext cx="531360" cy="805680"/>
                <a:chOff x="7075440" y="2484360"/>
                <a:chExt cx="531360" cy="80568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7075440" y="2484360"/>
                  <a:ext cx="531360" cy="414000"/>
                  <a:chOff x="7075440" y="2484360"/>
                  <a:chExt cx="531360" cy="414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0754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0945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140600" y="2896920"/>
                  <a:ext cx="412560" cy="393120"/>
                  <a:chOff x="7140600" y="2896920"/>
                  <a:chExt cx="412560" cy="393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3450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71434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406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73389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483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526600" y="2484360"/>
                <a:ext cx="531360" cy="805680"/>
                <a:chOff x="8526600" y="2484360"/>
                <a:chExt cx="531360" cy="805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8526600" y="2484360"/>
                  <a:ext cx="531360" cy="414000"/>
                  <a:chOff x="8526600" y="2484360"/>
                  <a:chExt cx="531360" cy="414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2660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54568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8591760" y="2896920"/>
                  <a:ext cx="412560" cy="393120"/>
                  <a:chOff x="8591760" y="2896920"/>
                  <a:chExt cx="412560" cy="393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879624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859464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59176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879012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79948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7886880" y="1741320"/>
                <a:ext cx="360360" cy="360360"/>
                <a:chOff x="7886880" y="1741320"/>
                <a:chExt cx="360360" cy="360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959960" y="181440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86880" y="174132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733428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2456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7572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92160" y="420696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0880" y="4743360"/>
                <a:ext cx="885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6520" y="304812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50920" y="3951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0920" y="44928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2160" y="574992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50920" y="54910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5240" y="6399360"/>
                <a:ext cx="5472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2160" y="6399360"/>
                <a:ext cx="2952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935520" y="6254640"/>
                <a:ext cx="358560" cy="269640"/>
                <a:chOff x="3935520" y="6254640"/>
                <a:chExt cx="358560" cy="269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35520" y="6254640"/>
                  <a:ext cx="35856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935520" y="6254640"/>
                  <a:ext cx="35856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150920" y="611172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30700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8880" y="200484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132440" y="3230640"/>
                <a:ext cx="891720" cy="3133800"/>
                <a:chOff x="4132440" y="3230640"/>
                <a:chExt cx="891720" cy="3133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4132440" y="3230640"/>
                  <a:ext cx="891720" cy="3133800"/>
                  <a:chOff x="4132440" y="3230640"/>
                  <a:chExt cx="891720" cy="31338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440532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132440" y="3230640"/>
                    <a:ext cx="891720" cy="685440"/>
                    <a:chOff x="4132440" y="3230640"/>
                    <a:chExt cx="891720" cy="68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019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178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4132440" y="3230640"/>
                      <a:ext cx="579600" cy="685440"/>
                      <a:chOff x="4132440" y="3230640"/>
                      <a:chExt cx="579600" cy="68544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4136760" y="3484440"/>
                        <a:ext cx="575280" cy="431640"/>
                        <a:chOff x="4136760" y="3484440"/>
                        <a:chExt cx="575280" cy="43164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41367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 flipV="1">
                          <a:off x="41367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41367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47120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1324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42228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4053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71492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7149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1492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1492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4170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845320" y="3230640"/>
                <a:ext cx="891720" cy="3133800"/>
                <a:chOff x="5845320" y="3230640"/>
                <a:chExt cx="891720" cy="313380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845320" y="3230640"/>
                  <a:ext cx="891720" cy="3133800"/>
                  <a:chOff x="5845320" y="3230640"/>
                  <a:chExt cx="891720" cy="3133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61182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845320" y="3230640"/>
                    <a:ext cx="891720" cy="685440"/>
                    <a:chOff x="5845320" y="3230640"/>
                    <a:chExt cx="891720" cy="685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41484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3076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5845320" y="3230640"/>
                      <a:ext cx="579600" cy="685440"/>
                      <a:chOff x="5845320" y="3230640"/>
                      <a:chExt cx="579600" cy="685440"/>
                    </a:xfrm>
                  </p:grpSpPr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5849640" y="3484440"/>
                        <a:ext cx="575280" cy="431640"/>
                        <a:chOff x="5849640" y="3484440"/>
                        <a:chExt cx="575280" cy="43164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584964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584964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584964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642492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84532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593568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182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642780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42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42780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42780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5889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343640" y="3230640"/>
                <a:ext cx="1194840" cy="3133800"/>
                <a:chOff x="7343640" y="3230640"/>
                <a:chExt cx="1194840" cy="31338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43640" y="3230640"/>
                  <a:ext cx="1194840" cy="3133800"/>
                  <a:chOff x="7343640" y="3230640"/>
                  <a:chExt cx="1194840" cy="3133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75978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7343640" y="3230640"/>
                    <a:ext cx="891720" cy="685440"/>
                    <a:chOff x="7343640" y="3230640"/>
                    <a:chExt cx="891720" cy="6854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9131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80290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7343640" y="3230640"/>
                      <a:ext cx="579600" cy="685440"/>
                      <a:chOff x="7343640" y="3230640"/>
                      <a:chExt cx="579600" cy="685440"/>
                    </a:xfrm>
                  </p:grpSpPr>
                  <p:grpSp>
                    <p:nvGrpSpPr>
                      <p:cNvPr id="515" name=""/>
                      <p:cNvGrpSpPr/>
                      <p:nvPr/>
                    </p:nvGrpSpPr>
                    <p:grpSpPr>
                      <a:xfrm>
                        <a:off x="7347960" y="3484440"/>
                        <a:ext cx="575280" cy="431640"/>
                        <a:chOff x="7347960" y="3484440"/>
                        <a:chExt cx="575280" cy="431640"/>
                      </a:xfrm>
                    </p:grpSpPr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73479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73479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3479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9232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436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74340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9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7384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7384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7384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384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042040" y="3915000"/>
                    <a:ext cx="496440" cy="187200"/>
                    <a:chOff x="8042040" y="3915000"/>
                    <a:chExt cx="496440" cy="1872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42040" y="391500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8121240" y="3951360"/>
                      <a:ext cx="417240" cy="117360"/>
                      <a:chOff x="8121240" y="3951360"/>
                      <a:chExt cx="417240" cy="1173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121240" y="395136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125560" y="395460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flipH="1">
                        <a:off x="8125560" y="401400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125560" y="406872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34" name=""/>
                  <p:cNvSpPr/>
                  <p:nvPr/>
                </p:nvSpPr>
                <p:spPr>
                  <a:xfrm flipV="1">
                    <a:off x="7926120" y="390348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921440" y="402300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40052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884088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4640" y="170028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7240" y="8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99400" y="15098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1496880" y="3284640"/>
                <a:ext cx="671760" cy="882720"/>
                <a:chOff x="1496880" y="3284640"/>
                <a:chExt cx="671760" cy="882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855800" y="36972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962000" y="3605040"/>
                  <a:ext cx="20664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496880" y="3484080"/>
                  <a:ext cx="365040" cy="432000"/>
                  <a:chOff x="1496880" y="3484080"/>
                  <a:chExt cx="365040" cy="432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1496880" y="359244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496880" y="348408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496880" y="380736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61920" y="348444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496880" y="328464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6372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143820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792840" y="4757760"/>
                <a:ext cx="751680" cy="975240"/>
                <a:chOff x="6792840" y="4757760"/>
                <a:chExt cx="751680" cy="97524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873480" y="4757760"/>
                  <a:ext cx="671040" cy="975240"/>
                  <a:chOff x="6873480" y="4757760"/>
                  <a:chExt cx="671040" cy="975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232040" y="521388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338240" y="5111640"/>
                    <a:ext cx="20628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3480" y="4978080"/>
                    <a:ext cx="364680" cy="477360"/>
                    <a:chOff x="6873480" y="4978080"/>
                    <a:chExt cx="364680" cy="4773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6873480" y="509832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6873480" y="497808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873480" y="533556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238160" y="497844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873480" y="475776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39960" y="534528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6792840" y="506484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1196640" y="125424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28720" y="1066680"/>
                <a:ext cx="360360" cy="360360"/>
                <a:chOff x="828720" y="1066680"/>
                <a:chExt cx="360360" cy="36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01800" y="1139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8720" y="1066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92000" y="8096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8880" y="2365200"/>
                <a:ext cx="935280" cy="3225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3840" y="26478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793000" y="3230640"/>
                <a:ext cx="1046160" cy="3133800"/>
                <a:chOff x="8793000" y="3230640"/>
                <a:chExt cx="1046160" cy="313380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9046800" y="385920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8793000" y="3230640"/>
                  <a:ext cx="891720" cy="685440"/>
                  <a:chOff x="8793000" y="3230640"/>
                  <a:chExt cx="891720" cy="6854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9362520" y="369756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9478440" y="360540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793000" y="3230640"/>
                    <a:ext cx="579600" cy="685440"/>
                    <a:chOff x="8793000" y="3230640"/>
                    <a:chExt cx="579600" cy="68544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97320" y="3484440"/>
                      <a:ext cx="575280" cy="431640"/>
                      <a:chOff x="8797320" y="3484440"/>
                      <a:chExt cx="575280" cy="43164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V="1">
                        <a:off x="8797320" y="359280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797320" y="34844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8797320" y="380772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9372600" y="348480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793000" y="323064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888336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0468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9223200" y="387792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92232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223200" y="582300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9223200" y="481500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8831160" y="3562200"/>
                  <a:ext cx="1008000" cy="540000"/>
                  <a:chOff x="8831160" y="3562200"/>
                  <a:chExt cx="1008000" cy="54000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9370800" y="3903840"/>
                    <a:ext cx="468360" cy="198360"/>
                    <a:chOff x="9370800" y="3903840"/>
                    <a:chExt cx="468360" cy="19836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9491400" y="3914640"/>
                      <a:ext cx="347760" cy="187560"/>
                      <a:chOff x="9491400" y="3914640"/>
                      <a:chExt cx="347760" cy="18756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9491400" y="391464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9570960" y="3951360"/>
                        <a:ext cx="268200" cy="117360"/>
                        <a:chOff x="9570960" y="3951360"/>
                        <a:chExt cx="268200" cy="117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9570960" y="395136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9575640" y="39546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9575280" y="401328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9575640" y="406872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9370800" y="3903840"/>
                      <a:ext cx="119160" cy="118800"/>
                      <a:chOff x="9370800" y="3903840"/>
                      <a:chExt cx="119160" cy="11880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9375480" y="390384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9370800" y="402264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831160" y="356220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 rot="16200000">
                <a:off x="-356400" y="469044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1496880" y="24112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55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919240" y="240192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9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359240" y="240192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335400" y="6261120"/>
                <a:ext cx="258840" cy="258840"/>
                <a:chOff x="3335400" y="6261120"/>
                <a:chExt cx="258840" cy="258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335400" y="626112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383280" y="639216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1" name=""/>
          <p:cNvSpPr/>
          <p:nvPr/>
        </p:nvSpPr>
        <p:spPr>
          <a:xfrm>
            <a:off x="849240" y="350028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501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65600" y="595008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0160" y="2565360"/>
            <a:ext cx="50328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97240" y="17733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2880" y="2205000"/>
            <a:ext cx="1295640" cy="64764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98920" y="1681200"/>
            <a:ext cx="107928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6520" y="3300480"/>
            <a:ext cx="129564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5280" y="6002280"/>
            <a:ext cx="115092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65960" y="4797360"/>
            <a:ext cx="129528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72880" y="166680"/>
            <a:ext cx="9563400" cy="6411600"/>
            <a:chOff x="272880" y="166680"/>
            <a:chExt cx="9563400" cy="6411600"/>
          </a:xfrm>
        </p:grpSpPr>
        <p:sp>
          <p:nvSpPr>
            <p:cNvPr id="622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0600" y="857160"/>
              <a:ext cx="9445680" cy="5721120"/>
              <a:chOff x="390600" y="857160"/>
              <a:chExt cx="9445680" cy="5721120"/>
            </a:xfrm>
          </p:grpSpPr>
          <p:sp>
            <p:nvSpPr>
              <p:cNvPr id="624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493640" y="23511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851280" y="2532240"/>
                <a:ext cx="531360" cy="805680"/>
                <a:chOff x="3851280" y="2532240"/>
                <a:chExt cx="531360" cy="8056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851280" y="2532240"/>
                  <a:ext cx="531360" cy="414000"/>
                  <a:chOff x="3851280" y="2532240"/>
                  <a:chExt cx="531360" cy="41400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85128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87036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3916440" y="2944800"/>
                  <a:ext cx="412560" cy="393120"/>
                  <a:chOff x="3916440" y="2944800"/>
                  <a:chExt cx="412560" cy="3931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12092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91932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1644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411480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12416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0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76600" y="2351160"/>
                <a:ext cx="264960" cy="360360"/>
                <a:chOff x="3576600" y="2351160"/>
                <a:chExt cx="264960" cy="3603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827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35766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4000" y="2351160"/>
                <a:ext cx="806400" cy="987480"/>
                <a:chOff x="2124000" y="2351160"/>
                <a:chExt cx="806400" cy="98748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398680" y="2531880"/>
                  <a:ext cx="531720" cy="414360"/>
                  <a:chOff x="2398680" y="2531880"/>
                  <a:chExt cx="531720" cy="4143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398680" y="2531880"/>
                    <a:ext cx="531720" cy="41436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flipH="1">
                  <a:off x="2555640" y="2351160"/>
                  <a:ext cx="2156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flipH="1">
                <a:off x="2916000" y="23511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95640" y="23511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56000" y="23511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072200" y="2532240"/>
                <a:ext cx="531360" cy="805680"/>
                <a:chOff x="7072200" y="2532240"/>
                <a:chExt cx="531360" cy="8056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7072200" y="2532240"/>
                  <a:ext cx="531360" cy="414000"/>
                  <a:chOff x="7072200" y="2532240"/>
                  <a:chExt cx="531360" cy="4140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0722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0912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137360" y="2944800"/>
                  <a:ext cx="412560" cy="393120"/>
                  <a:chOff x="7137360" y="2944800"/>
                  <a:chExt cx="412560" cy="3931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73418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1402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373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3357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450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8523360" y="2532240"/>
                <a:ext cx="531360" cy="805680"/>
                <a:chOff x="8523360" y="2532240"/>
                <a:chExt cx="531360" cy="8056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523360" y="2532240"/>
                  <a:ext cx="531360" cy="414000"/>
                  <a:chOff x="8523360" y="2532240"/>
                  <a:chExt cx="531360" cy="4140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852336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54244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588520" y="2944800"/>
                  <a:ext cx="412560" cy="393120"/>
                  <a:chOff x="8588520" y="2944800"/>
                  <a:chExt cx="412560" cy="3931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79300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859140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8852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878688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79624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7883640" y="1789200"/>
                <a:ext cx="360360" cy="360360"/>
                <a:chOff x="7883640" y="1789200"/>
                <a:chExt cx="360360" cy="360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5672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88364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3104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216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7724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30376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5640" y="20527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8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7340760" y="3278160"/>
                <a:ext cx="1194840" cy="3133800"/>
                <a:chOff x="7340760" y="3278160"/>
                <a:chExt cx="1194840" cy="313380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7340760" y="3278160"/>
                  <a:ext cx="1194840" cy="3133800"/>
                  <a:chOff x="7340760" y="3278160"/>
                  <a:chExt cx="1194840" cy="3133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759492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340760" y="3278160"/>
                    <a:ext cx="891720" cy="685440"/>
                    <a:chOff x="7340760" y="3278160"/>
                    <a:chExt cx="891720" cy="6854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791028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620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7340760" y="3278160"/>
                      <a:ext cx="579600" cy="685440"/>
                      <a:chOff x="7340760" y="3278160"/>
                      <a:chExt cx="579600" cy="6854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7345080" y="3531960"/>
                        <a:ext cx="575280" cy="431640"/>
                        <a:chOff x="7345080" y="3531960"/>
                        <a:chExt cx="575280" cy="4316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734508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734508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734508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92036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34076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743112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9492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7709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770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7709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7709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039160" y="3962520"/>
                    <a:ext cx="496440" cy="187200"/>
                    <a:chOff x="8039160" y="3962520"/>
                    <a:chExt cx="496440" cy="1872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3916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8118360" y="3998880"/>
                      <a:ext cx="417240" cy="117360"/>
                      <a:chOff x="8118360" y="3998880"/>
                      <a:chExt cx="417240" cy="1173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811836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812268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H="1">
                        <a:off x="812268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812268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8" name=""/>
                  <p:cNvSpPr/>
                  <p:nvPr/>
                </p:nvSpPr>
                <p:spPr>
                  <a:xfrm flipV="1">
                    <a:off x="792324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91856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739764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83764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1760" y="1747800"/>
                <a:ext cx="138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9616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790120" y="3278160"/>
                <a:ext cx="1046160" cy="3133800"/>
                <a:chOff x="8790120" y="3278160"/>
                <a:chExt cx="1046160" cy="313380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904392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"/>
                <p:cNvGrpSpPr/>
                <p:nvPr/>
              </p:nvGrpSpPr>
              <p:grpSpPr>
                <a:xfrm>
                  <a:off x="8790120" y="3278160"/>
                  <a:ext cx="891720" cy="685440"/>
                  <a:chOff x="8790120" y="3278160"/>
                  <a:chExt cx="891720" cy="685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935964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947556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8790120" y="3278160"/>
                    <a:ext cx="579600" cy="685440"/>
                    <a:chOff x="8790120" y="3278160"/>
                    <a:chExt cx="579600" cy="68544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8794440" y="3531960"/>
                      <a:ext cx="575280" cy="431640"/>
                      <a:chOff x="8794440" y="3531960"/>
                      <a:chExt cx="575280" cy="43164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79444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79444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879444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936972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79012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77" name=""/>
                <p:cNvSpPr/>
                <p:nvPr/>
              </p:nvSpPr>
              <p:spPr>
                <a:xfrm>
                  <a:off x="888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0439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922032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92203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22032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922032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8828280" y="3609720"/>
                  <a:ext cx="1008000" cy="540000"/>
                  <a:chOff x="8828280" y="3609720"/>
                  <a:chExt cx="1008000" cy="5400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9367920" y="3951360"/>
                    <a:ext cx="468360" cy="198360"/>
                    <a:chOff x="9367920" y="3951360"/>
                    <a:chExt cx="468360" cy="19836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9488520" y="3962160"/>
                      <a:ext cx="347760" cy="187560"/>
                      <a:chOff x="9488520" y="3962160"/>
                      <a:chExt cx="347760" cy="18756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9488520" y="396216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7" name=""/>
                      <p:cNvGrpSpPr/>
                      <p:nvPr/>
                    </p:nvGrpSpPr>
                    <p:grpSpPr>
                      <a:xfrm>
                        <a:off x="9568080" y="3998880"/>
                        <a:ext cx="268200" cy="117360"/>
                        <a:chOff x="9568080" y="3998880"/>
                        <a:chExt cx="268200" cy="117360"/>
                      </a:xfrm>
                    </p:grpSpPr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9568080" y="399888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9572760" y="400212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9572400" y="40608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9572760" y="411624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9367920" y="3951360"/>
                      <a:ext cx="119160" cy="118800"/>
                      <a:chOff x="9367920" y="3951360"/>
                      <a:chExt cx="119160" cy="118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 flipV="1">
                        <a:off x="9372600" y="395136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9367920" y="407016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8828280" y="360972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6" name=""/>
              <p:cNvSpPr/>
              <p:nvPr/>
            </p:nvSpPr>
            <p:spPr>
              <a:xfrm rot="16200000">
                <a:off x="-357120" y="476892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496880" y="244944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919240" y="24400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99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359240" y="24400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>
            <a:off x="1784520" y="18111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5840" y="1719360"/>
            <a:ext cx="1079640" cy="5760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3880" y="5997600"/>
            <a:ext cx="331920" cy="123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33920" y="6118200"/>
            <a:ext cx="882360" cy="560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8124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0196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914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916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018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7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7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1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>
            <a:off x="459252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39800" y="2060640"/>
            <a:ext cx="43200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0040" y="1785960"/>
            <a:ext cx="158436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26440" y="981000"/>
            <a:ext cx="1511280" cy="935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977240" y="119700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207880" y="393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5240" y="3433680"/>
            <a:ext cx="1439640" cy="936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187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189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3840120" y="1320840"/>
                <a:ext cx="560520" cy="1217520"/>
                <a:chOff x="3840120" y="1320840"/>
                <a:chExt cx="560520" cy="12175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84012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9513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6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2958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9513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2958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3840120" y="1482840"/>
                  <a:ext cx="216000" cy="215640"/>
                  <a:chOff x="3840120" y="1482840"/>
                  <a:chExt cx="216000" cy="21564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8401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>
                    <a:off x="38858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44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184640" y="1482840"/>
                  <a:ext cx="216000" cy="215640"/>
                  <a:chOff x="4184640" y="1482840"/>
                  <a:chExt cx="216000" cy="215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1846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42303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3290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9513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2958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71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24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342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584520" y="2351160"/>
                <a:ext cx="806400" cy="987480"/>
                <a:chOff x="3584520" y="2351160"/>
                <a:chExt cx="806400" cy="9874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859200" y="2532240"/>
                  <a:ext cx="531720" cy="414000"/>
                  <a:chOff x="3859200" y="2532240"/>
                  <a:chExt cx="531720" cy="41400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85920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87504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3924360" y="2944800"/>
                  <a:ext cx="412560" cy="393840"/>
                  <a:chOff x="3924360" y="2944800"/>
                  <a:chExt cx="412560" cy="39384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12884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H="1">
                    <a:off x="392724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2436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>
                    <a:off x="412272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13208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584520" y="2351160"/>
                  <a:ext cx="264960" cy="360360"/>
                  <a:chOff x="3584520" y="2351160"/>
                  <a:chExt cx="264960" cy="36036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5906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35845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6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9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7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5294160" y="2351160"/>
                <a:ext cx="806400" cy="987480"/>
                <a:chOff x="5294160" y="2351160"/>
                <a:chExt cx="806400" cy="9874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5568840" y="2532240"/>
                  <a:ext cx="531720" cy="414000"/>
                  <a:chOff x="5568840" y="2532240"/>
                  <a:chExt cx="531720" cy="414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556884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558468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634000" y="2944800"/>
                  <a:ext cx="412560" cy="393840"/>
                  <a:chOff x="5634000" y="2944800"/>
                  <a:chExt cx="412560" cy="39384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83848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563688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3400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583236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84172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5294160" y="2351160"/>
                  <a:ext cx="264960" cy="360360"/>
                  <a:chOff x="5294160" y="2351160"/>
                  <a:chExt cx="264960" cy="3603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30028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H="1">
                    <a:off x="529416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557680" y="1320840"/>
                <a:ext cx="560520" cy="1217520"/>
                <a:chOff x="5557680" y="1320840"/>
                <a:chExt cx="560520" cy="12175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55768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6892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0220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0134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66892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01344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"/>
                <p:cNvGrpSpPr/>
                <p:nvPr/>
              </p:nvGrpSpPr>
              <p:grpSpPr>
                <a:xfrm>
                  <a:off x="5557680" y="1482840"/>
                  <a:ext cx="216000" cy="215640"/>
                  <a:chOff x="5557680" y="1482840"/>
                  <a:chExt cx="216000" cy="2156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555768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>
                    <a:off x="560340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570204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902200" y="1482840"/>
                  <a:ext cx="216000" cy="215640"/>
                  <a:chOff x="5902200" y="1482840"/>
                  <a:chExt cx="216000" cy="2156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90220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H="1">
                    <a:off x="594792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04656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566892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34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6" name=""/>
          <p:cNvSpPr/>
          <p:nvPr/>
        </p:nvSpPr>
        <p:spPr>
          <a:xfrm>
            <a:off x="6248520" y="213372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32520" y="1785960"/>
            <a:ext cx="1409400" cy="44748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32680" y="294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530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461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463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20680" y="543960"/>
                <a:ext cx="10415160" cy="6034320"/>
                <a:chOff x="220680" y="543960"/>
                <a:chExt cx="10415160" cy="6034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204920" y="3359160"/>
                  <a:ext cx="7061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987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8432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87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432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2387520" y="1482840"/>
                  <a:ext cx="216000" cy="215640"/>
                  <a:chOff x="2387520" y="1482840"/>
                  <a:chExt cx="216000" cy="2156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3875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>
                    <a:off x="24332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5318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2732040" y="1482840"/>
                  <a:ext cx="216000" cy="215640"/>
                  <a:chOff x="2732040" y="1482840"/>
                  <a:chExt cx="216000" cy="2156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27320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>
                    <a:off x="2777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28764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8" name=""/>
                <p:cNvSpPr/>
                <p:nvPr/>
              </p:nvSpPr>
              <p:spPr>
                <a:xfrm>
                  <a:off x="24987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432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3840120" y="1320840"/>
                  <a:ext cx="560520" cy="1217520"/>
                  <a:chOff x="3840120" y="1320840"/>
                  <a:chExt cx="560520" cy="1217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384012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36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18464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29588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36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429588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3840120" y="1482840"/>
                    <a:ext cx="216000" cy="215640"/>
                    <a:chOff x="3840120" y="1482840"/>
                    <a:chExt cx="216000" cy="21564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384012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H="1">
                      <a:off x="388584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98448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184640" y="1482840"/>
                    <a:ext cx="216000" cy="215640"/>
                    <a:chOff x="4184640" y="1482840"/>
                    <a:chExt cx="216000" cy="21564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18464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>
                      <a:off x="423036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32900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5" name=""/>
                  <p:cNvSpPr/>
                  <p:nvPr/>
                </p:nvSpPr>
                <p:spPr>
                  <a:xfrm>
                    <a:off x="395136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29588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5292720" y="2351160"/>
                  <a:ext cx="264960" cy="360360"/>
                  <a:chOff x="5292720" y="2351160"/>
                  <a:chExt cx="264960" cy="3603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52988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52927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7196040" y="2532240"/>
                  <a:ext cx="531360" cy="805680"/>
                  <a:chOff x="7196040" y="2532240"/>
                  <a:chExt cx="531360" cy="805680"/>
                </a:xfrm>
              </p:grpSpPr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196040" y="2532240"/>
                    <a:ext cx="531360" cy="414000"/>
                    <a:chOff x="7196040" y="2532240"/>
                    <a:chExt cx="531360" cy="41400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196040" y="2532240"/>
                      <a:ext cx="531360" cy="414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215120" y="256356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261200" y="2944800"/>
                    <a:ext cx="412560" cy="393120"/>
                    <a:chOff x="7261200" y="2944800"/>
                    <a:chExt cx="412560" cy="3931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465680" y="2944800"/>
                      <a:ext cx="0" cy="117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 flipH="1">
                      <a:off x="7264080" y="3052440"/>
                      <a:ext cx="204480" cy="950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261200" y="314784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7459560" y="3147840"/>
                      <a:ext cx="207360" cy="932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468920" y="3231720"/>
                      <a:ext cx="0" cy="1062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8007480" y="1789200"/>
                  <a:ext cx="360360" cy="360360"/>
                  <a:chOff x="8007480" y="1789200"/>
                  <a:chExt cx="360360" cy="3603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8080560" y="186228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07480" y="178920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7454880" y="1971720"/>
                  <a:ext cx="4604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445520" y="1943280"/>
                  <a:ext cx="0" cy="576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988920" y="4254480"/>
                  <a:ext cx="7277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917640" y="4791240"/>
                  <a:ext cx="734832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133640" y="3095640"/>
                  <a:ext cx="720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40 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147680" y="399888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35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47680" y="454032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3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88920" y="5797440"/>
                  <a:ext cx="734868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147680" y="55389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6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302000" y="6446880"/>
                  <a:ext cx="403560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988920" y="6446880"/>
                  <a:ext cx="2952720" cy="0"/>
                </a:xfrm>
                <a:prstGeom prst="line">
                  <a:avLst/>
                </a:prstGeom>
                <a:ln w="50760">
                  <a:solidFill>
                    <a:srgbClr val="9933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"/>
                <p:cNvGrpSpPr/>
                <p:nvPr/>
              </p:nvGrpSpPr>
              <p:grpSpPr>
                <a:xfrm>
                  <a:off x="3944520" y="6308640"/>
                  <a:ext cx="359280" cy="269640"/>
                  <a:chOff x="3944520" y="6308640"/>
                  <a:chExt cx="359280" cy="26964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944880" y="6308640"/>
                    <a:ext cx="358920" cy="26964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3944520" y="6308640"/>
                    <a:ext cx="358920" cy="2649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1147680" y="6159600"/>
                  <a:ext cx="151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ermoficare urb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85640" y="1957320"/>
                  <a:ext cx="935280" cy="32220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4129200" y="3278160"/>
                    <a:ext cx="891720" cy="3133800"/>
                    <a:chOff x="4129200" y="3278160"/>
                    <a:chExt cx="891720" cy="313380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flipV="1">
                      <a:off x="440208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4129200" y="3278160"/>
                      <a:ext cx="891720" cy="685440"/>
                      <a:chOff x="4129200" y="3278160"/>
                      <a:chExt cx="891720" cy="6854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469872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481464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5" name=""/>
                      <p:cNvGrpSpPr/>
                      <p:nvPr/>
                    </p:nvGrpSpPr>
                    <p:grpSpPr>
                      <a:xfrm>
                        <a:off x="4129200" y="3278160"/>
                        <a:ext cx="579600" cy="685440"/>
                        <a:chOff x="4129200" y="3278160"/>
                        <a:chExt cx="579600" cy="685440"/>
                      </a:xfrm>
                    </p:grpSpPr>
                    <p:grpSp>
                      <p:nvGrpSpPr>
                        <p:cNvPr id="1536" name=""/>
                        <p:cNvGrpSpPr/>
                        <p:nvPr/>
                      </p:nvGrpSpPr>
                      <p:grpSpPr>
                        <a:xfrm>
                          <a:off x="4133520" y="3531960"/>
                          <a:ext cx="575280" cy="431640"/>
                          <a:chOff x="4133520" y="3531960"/>
                          <a:chExt cx="575280" cy="431640"/>
                        </a:xfrm>
                      </p:grpSpPr>
                      <p:sp>
                        <p:nvSpPr>
                          <p:cNvPr id="1537" name=""/>
                          <p:cNvSpPr/>
                          <p:nvPr/>
                        </p:nvSpPr>
                        <p:spPr>
                          <a:xfrm flipV="1">
                            <a:off x="413352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8" name=""/>
                          <p:cNvSpPr/>
                          <p:nvPr/>
                        </p:nvSpPr>
                        <p:spPr>
                          <a:xfrm flipV="1">
                            <a:off x="413352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13352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70880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412920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21956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44020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V="1">
                      <a:off x="471168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47116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471168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471168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4167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842080" y="3278160"/>
                    <a:ext cx="891720" cy="3133800"/>
                    <a:chOff x="5842080" y="3278160"/>
                    <a:chExt cx="891720" cy="31338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flipV="1">
                      <a:off x="611496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5842080" y="3278160"/>
                      <a:ext cx="891720" cy="685440"/>
                      <a:chOff x="5842080" y="3278160"/>
                      <a:chExt cx="891720" cy="685440"/>
                    </a:xfrm>
                  </p:grpSpPr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641160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652752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5842080" y="3278160"/>
                        <a:ext cx="579600" cy="685440"/>
                        <a:chOff x="5842080" y="3278160"/>
                        <a:chExt cx="579600" cy="685440"/>
                      </a:xfrm>
                    </p:grpSpPr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5846400" y="3531960"/>
                          <a:ext cx="575280" cy="431640"/>
                          <a:chOff x="5846400" y="3531960"/>
                          <a:chExt cx="575280" cy="431640"/>
                        </a:xfrm>
                      </p:grpSpPr>
                      <p:sp>
                        <p:nvSpPr>
                          <p:cNvPr id="1557" name=""/>
                          <p:cNvSpPr/>
                          <p:nvPr/>
                        </p:nvSpPr>
                        <p:spPr>
                          <a:xfrm flipV="1">
                            <a:off x="584640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"/>
                          <p:cNvSpPr/>
                          <p:nvPr/>
                        </p:nvSpPr>
                        <p:spPr>
                          <a:xfrm flipV="1">
                            <a:off x="584640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"/>
                          <p:cNvSpPr/>
                          <p:nvPr/>
                        </p:nvSpPr>
                        <p:spPr>
                          <a:xfrm>
                            <a:off x="584640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"/>
                          <p:cNvSpPr/>
                          <p:nvPr/>
                        </p:nvSpPr>
                        <p:spPr>
                          <a:xfrm>
                            <a:off x="642168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84208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593244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1149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 flipV="1">
                      <a:off x="642456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64245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642456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642456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8" name=""/>
                  <p:cNvSpPr/>
                  <p:nvPr/>
                </p:nvSpPr>
                <p:spPr>
                  <a:xfrm>
                    <a:off x="5886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220680" y="1652760"/>
                  <a:ext cx="203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chidere ecologica depozi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920000" y="15573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Cos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1" name=""/>
                <p:cNvGrpSpPr/>
                <p:nvPr/>
              </p:nvGrpSpPr>
              <p:grpSpPr>
                <a:xfrm>
                  <a:off x="1494000" y="3332160"/>
                  <a:ext cx="671040" cy="882720"/>
                  <a:chOff x="1494000" y="3332160"/>
                  <a:chExt cx="671040" cy="8827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1852560" y="374472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958760" y="3652560"/>
                    <a:ext cx="206280" cy="190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1494000" y="3531600"/>
                    <a:ext cx="364680" cy="432000"/>
                    <a:chOff x="1494000" y="3531600"/>
                    <a:chExt cx="364680" cy="43200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 flipV="1">
                      <a:off x="1494000" y="363996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 flipV="1">
                      <a:off x="1494000" y="353160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494000" y="385488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58680" y="3531960"/>
                      <a:ext cx="0" cy="431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9" name=""/>
                  <p:cNvSpPr/>
                  <p:nvPr/>
                </p:nvSpPr>
                <p:spPr>
                  <a:xfrm>
                    <a:off x="1494000" y="3332160"/>
                    <a:ext cx="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186048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14349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789600" y="4805280"/>
                  <a:ext cx="752760" cy="975240"/>
                  <a:chOff x="6789600" y="4805280"/>
                  <a:chExt cx="752760" cy="975240"/>
                </a:xfrm>
              </p:grpSpPr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6870600" y="4805280"/>
                    <a:ext cx="671760" cy="975240"/>
                    <a:chOff x="6870600" y="4805280"/>
                    <a:chExt cx="671760" cy="975240"/>
                  </a:xfrm>
                </p:grpSpPr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229520" y="5261400"/>
                      <a:ext cx="103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335720" y="5159160"/>
                      <a:ext cx="206640" cy="2106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6870600" y="5025600"/>
                      <a:ext cx="365040" cy="477360"/>
                      <a:chOff x="6870600" y="5025600"/>
                      <a:chExt cx="365040" cy="47736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6870600" y="5145840"/>
                        <a:ext cx="0" cy="236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 flipV="1">
                        <a:off x="6870600" y="502560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6870600" y="538308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7235640" y="5025960"/>
                        <a:ext cx="0" cy="477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6870600" y="4805280"/>
                      <a:ext cx="0" cy="364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237440" y="5392800"/>
                      <a:ext cx="0" cy="387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6789600" y="511236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flipH="1">
                  <a:off x="1193400" y="1301760"/>
                  <a:ext cx="48387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825480" y="1114560"/>
                  <a:ext cx="360360" cy="360360"/>
                  <a:chOff x="825480" y="1114560"/>
                  <a:chExt cx="360360" cy="3603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898560" y="118764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480" y="111456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415800" y="836640"/>
                  <a:ext cx="1081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Cos repar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85640" y="2413080"/>
                  <a:ext cx="935280" cy="322200"/>
                </a:xfrm>
                <a:prstGeom prst="rect">
                  <a:avLst/>
                </a:prstGeom>
                <a:solidFill>
                  <a:srgbClr val="ccffcc"/>
                </a:solidFill>
                <a:ln w="255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90600" y="2695680"/>
                  <a:ext cx="16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Depozite noi de cenus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200000">
                  <a:off x="-357120" y="4645080"/>
                  <a:ext cx="2165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Times New Roman"/>
                    </a:rPr>
                    <a:t>Consumatorii industriali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3954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73996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1496880" y="2373480"/>
                  <a:ext cx="9129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398680" y="2532240"/>
                  <a:ext cx="531720" cy="414000"/>
                  <a:chOff x="2398680" y="2532240"/>
                  <a:chExt cx="531720" cy="414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9868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 flipH="1">
                  <a:off x="2558880" y="236376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919240" y="2373480"/>
                  <a:ext cx="93528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998880" y="2373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359240" y="2373480"/>
                  <a:ext cx="94464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1" name=""/>
                <p:cNvGrpSpPr/>
                <p:nvPr/>
              </p:nvGrpSpPr>
              <p:grpSpPr>
                <a:xfrm>
                  <a:off x="3325680" y="6308640"/>
                  <a:ext cx="258840" cy="258840"/>
                  <a:chOff x="3325680" y="6308640"/>
                  <a:chExt cx="258840" cy="258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25680" y="6308640"/>
                    <a:ext cx="258840" cy="25884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3373560" y="6439680"/>
                    <a:ext cx="156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584520" y="2351160"/>
                  <a:ext cx="806400" cy="987480"/>
                  <a:chOff x="3584520" y="2351160"/>
                  <a:chExt cx="806400" cy="9874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859200" y="2532240"/>
                    <a:ext cx="531720" cy="414000"/>
                    <a:chOff x="3859200" y="2532240"/>
                    <a:chExt cx="531720" cy="41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85920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387504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3924360" y="2944800"/>
                    <a:ext cx="412560" cy="393840"/>
                    <a:chOff x="3924360" y="2944800"/>
                    <a:chExt cx="412560" cy="3938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412884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>
                      <a:off x="392724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392436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 flipH="1">
                      <a:off x="412272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413208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3584520" y="2351160"/>
                    <a:ext cx="264960" cy="360360"/>
                    <a:chOff x="3584520" y="2351160"/>
                    <a:chExt cx="264960" cy="36036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359064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 flipH="1">
                      <a:off x="358452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"/>
                <p:cNvSpPr/>
                <p:nvPr/>
              </p:nvSpPr>
              <p:spPr>
                <a:xfrm>
                  <a:off x="69840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69516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3220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0" name=""/>
                <p:cNvGrpSpPr/>
                <p:nvPr/>
              </p:nvGrpSpPr>
              <p:grpSpPr>
                <a:xfrm>
                  <a:off x="2678040" y="3278160"/>
                  <a:ext cx="891720" cy="685440"/>
                  <a:chOff x="2678040" y="3278160"/>
                  <a:chExt cx="891720" cy="68544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24756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36348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678040" y="3278160"/>
                    <a:ext cx="579600" cy="685440"/>
                    <a:chOff x="2678040" y="3278160"/>
                    <a:chExt cx="579600" cy="685440"/>
                  </a:xfrm>
                </p:grpSpPr>
                <p:grpSp>
                  <p:nvGrpSpPr>
                    <p:cNvPr id="1644" name=""/>
                    <p:cNvGrpSpPr/>
                    <p:nvPr/>
                  </p:nvGrpSpPr>
                  <p:grpSpPr>
                    <a:xfrm>
                      <a:off x="2682360" y="3531960"/>
                      <a:ext cx="575280" cy="431640"/>
                      <a:chOff x="2682360" y="3531960"/>
                      <a:chExt cx="575280" cy="431640"/>
                    </a:xfrm>
                  </p:grpSpPr>
                  <p:sp>
                    <p:nvSpPr>
                      <p:cNvPr id="1645" name=""/>
                      <p:cNvSpPr/>
                      <p:nvPr/>
                    </p:nvSpPr>
                    <p:spPr>
                      <a:xfrm flipV="1">
                        <a:off x="268236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 flipV="1">
                        <a:off x="268236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68236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325764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267804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0" name=""/>
                <p:cNvSpPr/>
                <p:nvPr/>
              </p:nvSpPr>
              <p:spPr>
                <a:xfrm>
                  <a:off x="293220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3376440" y="3962520"/>
                  <a:ext cx="496440" cy="187200"/>
                  <a:chOff x="3376440" y="3962520"/>
                  <a:chExt cx="496440" cy="18720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76440" y="3962520"/>
                    <a:ext cx="208080" cy="1872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3455640" y="3998880"/>
                    <a:ext cx="417240" cy="117360"/>
                    <a:chOff x="3455640" y="3998880"/>
                    <a:chExt cx="417240" cy="1173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3455640" y="3998880"/>
                      <a:ext cx="412920" cy="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459960" y="4002120"/>
                      <a:ext cx="59760" cy="5508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flipH="1">
                      <a:off x="3459960" y="4061520"/>
                      <a:ext cx="59760" cy="5472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459960" y="4116240"/>
                      <a:ext cx="412920" cy="0"/>
                    </a:xfrm>
                    <a:prstGeom prst="line">
                      <a:avLst/>
                    </a:prstGeom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"/>
                <p:cNvSpPr/>
                <p:nvPr/>
              </p:nvSpPr>
              <p:spPr>
                <a:xfrm flipV="1">
                  <a:off x="3260880" y="3951000"/>
                  <a:ext cx="0" cy="1191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255840" y="4070520"/>
                  <a:ext cx="1191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352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448040" y="543960"/>
                  <a:ext cx="3187800" cy="1388160"/>
                  <a:chOff x="7448040" y="543960"/>
                  <a:chExt cx="3187800" cy="138816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V="1">
                    <a:off x="7448040" y="54360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9174240" y="54396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868960" y="1052640"/>
                    <a:ext cx="345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696520" y="1729440"/>
                    <a:ext cx="69012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5294160" y="2351160"/>
                  <a:ext cx="806400" cy="987480"/>
                  <a:chOff x="5294160" y="2351160"/>
                  <a:chExt cx="806400" cy="987480"/>
                </a:xfrm>
              </p:grpSpPr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5568840" y="2532240"/>
                    <a:ext cx="531720" cy="414000"/>
                    <a:chOff x="5568840" y="2532240"/>
                    <a:chExt cx="531720" cy="41400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556884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58468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5634000" y="2944800"/>
                    <a:ext cx="412560" cy="393840"/>
                    <a:chOff x="5634000" y="2944800"/>
                    <a:chExt cx="412560" cy="393840"/>
                  </a:xfrm>
                </p:grpSpPr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83848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563688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563400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583236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84172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5294160" y="2351160"/>
                    <a:ext cx="264960" cy="360360"/>
                    <a:chOff x="5294160" y="2351160"/>
                    <a:chExt cx="264960" cy="3603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30028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 flipH="1">
                      <a:off x="529416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5557680" y="1320840"/>
                  <a:ext cx="560520" cy="1217520"/>
                  <a:chOff x="5557680" y="1320840"/>
                  <a:chExt cx="560520" cy="12175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555768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66892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90220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01344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66892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01344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5557680" y="1482840"/>
                    <a:ext cx="216000" cy="215640"/>
                    <a:chOff x="5557680" y="1482840"/>
                    <a:chExt cx="216000" cy="215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555768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>
                      <a:off x="560340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70204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5902200" y="1482840"/>
                    <a:ext cx="216000" cy="215640"/>
                    <a:chOff x="5902200" y="1482840"/>
                    <a:chExt cx="216000" cy="21564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90220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>
                      <a:off x="594792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604656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4" name=""/>
                  <p:cNvSpPr/>
                  <p:nvPr/>
                </p:nvSpPr>
                <p:spPr>
                  <a:xfrm>
                    <a:off x="566892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601344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1596960" y="1100160"/>
                  <a:ext cx="504720" cy="3938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92200" y="817560"/>
                  <a:ext cx="165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stalatie desulfur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8" name=""/>
          <p:cNvSpPr/>
          <p:nvPr/>
        </p:nvSpPr>
        <p:spPr>
          <a:xfrm flipH="1" flipV="1">
            <a:off x="272880" y="1196640"/>
            <a:ext cx="432000" cy="14436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31800" y="846000"/>
            <a:ext cx="1800360" cy="792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272880" y="16668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SCHEMA TEHNOLOGICA LA SFARSITUL ANULU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20680" y="543960"/>
            <a:ext cx="10415160" cy="6034320"/>
            <a:chOff x="220680" y="543960"/>
            <a:chExt cx="10415160" cy="6034320"/>
          </a:xfrm>
        </p:grpSpPr>
        <p:sp>
          <p:nvSpPr>
            <p:cNvPr id="1702" name=""/>
            <p:cNvSpPr/>
            <p:nvPr/>
          </p:nvSpPr>
          <p:spPr>
            <a:xfrm>
              <a:off x="1204920" y="3359160"/>
              <a:ext cx="7061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876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4328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9876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4328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2387520" y="1482840"/>
              <a:ext cx="216000" cy="215640"/>
              <a:chOff x="2387520" y="1482840"/>
              <a:chExt cx="216000" cy="215640"/>
            </a:xfrm>
          </p:grpSpPr>
          <p:sp>
            <p:nvSpPr>
              <p:cNvPr id="1708" name=""/>
              <p:cNvSpPr/>
              <p:nvPr/>
            </p:nvSpPr>
            <p:spPr>
              <a:xfrm>
                <a:off x="238752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43324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3188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732040" y="1482840"/>
              <a:ext cx="216000" cy="215640"/>
              <a:chOff x="2732040" y="1482840"/>
              <a:chExt cx="216000" cy="215640"/>
            </a:xfrm>
          </p:grpSpPr>
          <p:sp>
            <p:nvSpPr>
              <p:cNvPr id="1712" name=""/>
              <p:cNvSpPr/>
              <p:nvPr/>
            </p:nvSpPr>
            <p:spPr>
              <a:xfrm>
                <a:off x="273204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77776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640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49876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4328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3840120" y="1320840"/>
              <a:ext cx="560520" cy="1217520"/>
              <a:chOff x="3840120" y="1320840"/>
              <a:chExt cx="560520" cy="1217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292720" y="2351160"/>
              <a:ext cx="264960" cy="360360"/>
              <a:chOff x="5292720" y="2351160"/>
              <a:chExt cx="264960" cy="360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529884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29272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7196040" y="2532240"/>
              <a:ext cx="531360" cy="805680"/>
              <a:chOff x="7196040" y="2532240"/>
              <a:chExt cx="531360" cy="80568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7196040" y="2532240"/>
                <a:ext cx="531360" cy="414000"/>
                <a:chOff x="7196040" y="2532240"/>
                <a:chExt cx="531360" cy="4140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196040" y="2532240"/>
                  <a:ext cx="531360" cy="41400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215120" y="256356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3300"/>
                      </a:solidFill>
                      <a:latin typeface="Times New Roman"/>
                    </a:rPr>
                    <a:t>C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7261200" y="2944800"/>
                <a:ext cx="412560" cy="393120"/>
                <a:chOff x="7261200" y="2944800"/>
                <a:chExt cx="412560" cy="3931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7465680" y="2944800"/>
                  <a:ext cx="0" cy="117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64080" y="3052440"/>
                  <a:ext cx="204480" cy="950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7261200" y="314784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7459560" y="3147840"/>
                  <a:ext cx="207360" cy="932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468920" y="3231720"/>
                  <a:ext cx="0" cy="106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8007480" y="1789200"/>
              <a:ext cx="360360" cy="360360"/>
              <a:chOff x="8007480" y="1789200"/>
              <a:chExt cx="360360" cy="360360"/>
            </a:xfrm>
          </p:grpSpPr>
          <p:sp>
            <p:nvSpPr>
              <p:cNvPr id="1748" name=""/>
              <p:cNvSpPr/>
              <p:nvPr/>
            </p:nvSpPr>
            <p:spPr>
              <a:xfrm>
                <a:off x="8080560" y="186228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07480" y="178920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7454880" y="1971720"/>
              <a:ext cx="460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45520" y="1943280"/>
              <a:ext cx="0" cy="57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88920" y="4254480"/>
              <a:ext cx="7277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17640" y="4791240"/>
              <a:ext cx="73483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133640" y="3095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40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7680" y="3998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35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147680" y="45403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3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88920" y="5797440"/>
              <a:ext cx="734868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47680" y="553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6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02000" y="6446880"/>
              <a:ext cx="403560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88920" y="6446880"/>
              <a:ext cx="29527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3944520" y="6308640"/>
              <a:ext cx="359280" cy="269640"/>
              <a:chOff x="3944520" y="6308640"/>
              <a:chExt cx="359280" cy="269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3944880" y="6308640"/>
                <a:ext cx="358920" cy="26964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944520" y="6308640"/>
                <a:ext cx="358920" cy="264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147680" y="6159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ermoficare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640" y="1957320"/>
              <a:ext cx="935280" cy="322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129200" y="3278160"/>
              <a:ext cx="891720" cy="3133800"/>
              <a:chOff x="4129200" y="3278160"/>
              <a:chExt cx="891720" cy="313380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sp>
              <p:nvSpPr>
                <p:cNvPr id="1768" name=""/>
                <p:cNvSpPr/>
                <p:nvPr/>
              </p:nvSpPr>
              <p:spPr>
                <a:xfrm flipV="1">
                  <a:off x="440208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4129200" y="3278160"/>
                  <a:ext cx="891720" cy="685440"/>
                  <a:chOff x="4129200" y="3278160"/>
                  <a:chExt cx="891720" cy="685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469872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481464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129200" y="3278160"/>
                    <a:ext cx="579600" cy="685440"/>
                    <a:chOff x="4129200" y="3278160"/>
                    <a:chExt cx="579600" cy="685440"/>
                  </a:xfrm>
                </p:grpSpPr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4133520" y="3531960"/>
                      <a:ext cx="575280" cy="431640"/>
                      <a:chOff x="4133520" y="3531960"/>
                      <a:chExt cx="575280" cy="43164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 flipV="1">
                        <a:off x="413352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 flipV="1">
                        <a:off x="413352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13352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470880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12920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79" name=""/>
                <p:cNvSpPr/>
                <p:nvPr/>
              </p:nvSpPr>
              <p:spPr>
                <a:xfrm>
                  <a:off x="421956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4020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471168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7116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71168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168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4167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842080" y="3278160"/>
              <a:ext cx="891720" cy="3133800"/>
              <a:chOff x="5842080" y="3278160"/>
              <a:chExt cx="891720" cy="313380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611496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9" name=""/>
                <p:cNvGrpSpPr/>
                <p:nvPr/>
              </p:nvGrpSpPr>
              <p:grpSpPr>
                <a:xfrm>
                  <a:off x="5842080" y="3278160"/>
                  <a:ext cx="891720" cy="685440"/>
                  <a:chOff x="5842080" y="3278160"/>
                  <a:chExt cx="891720" cy="68544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641160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52752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842080" y="3278160"/>
                    <a:ext cx="579600" cy="685440"/>
                    <a:chOff x="5842080" y="3278160"/>
                    <a:chExt cx="579600" cy="685440"/>
                  </a:xfrm>
                </p:grpSpPr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846400" y="3531960"/>
                      <a:ext cx="575280" cy="431640"/>
                      <a:chOff x="5846400" y="3531960"/>
                      <a:chExt cx="575280" cy="4316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 flipV="1">
                        <a:off x="584640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 flipV="1">
                        <a:off x="584640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84640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642168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84208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9" name=""/>
                <p:cNvSpPr/>
                <p:nvPr/>
              </p:nvSpPr>
              <p:spPr>
                <a:xfrm>
                  <a:off x="593244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1149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42456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4245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42456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42456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886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20680" y="1652760"/>
              <a:ext cx="20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Monitorizare depozit 20 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920000" y="1557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Cos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1494000" y="3332160"/>
              <a:ext cx="671040" cy="882720"/>
              <a:chOff x="1494000" y="3332160"/>
              <a:chExt cx="671040" cy="882720"/>
            </a:xfrm>
          </p:grpSpPr>
          <p:sp>
            <p:nvSpPr>
              <p:cNvPr id="1809" name=""/>
              <p:cNvSpPr/>
              <p:nvPr/>
            </p:nvSpPr>
            <p:spPr>
              <a:xfrm>
                <a:off x="1852560" y="3744720"/>
                <a:ext cx="10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958760" y="3652560"/>
                <a:ext cx="206280" cy="19080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1494000" y="3531600"/>
                <a:ext cx="364680" cy="432000"/>
                <a:chOff x="1494000" y="3531600"/>
                <a:chExt cx="364680" cy="43200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1494000" y="363996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1494000" y="353160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494000" y="385488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858680" y="353196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494000" y="3332160"/>
                <a:ext cx="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60480" y="3863880"/>
                <a:ext cx="0" cy="351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43496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6789600" y="4805280"/>
              <a:ext cx="752760" cy="975240"/>
              <a:chOff x="6789600" y="4805280"/>
              <a:chExt cx="752760" cy="9752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70600" y="4805280"/>
                <a:ext cx="671760" cy="975240"/>
                <a:chOff x="6870600" y="4805280"/>
                <a:chExt cx="671760" cy="975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229520" y="52614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35720" y="5159160"/>
                  <a:ext cx="206640" cy="2106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3" name=""/>
                <p:cNvGrpSpPr/>
                <p:nvPr/>
              </p:nvGrpSpPr>
              <p:grpSpPr>
                <a:xfrm>
                  <a:off x="6870600" y="5025600"/>
                  <a:ext cx="365040" cy="477360"/>
                  <a:chOff x="6870600" y="5025600"/>
                  <a:chExt cx="365040" cy="47736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 flipV="1">
                    <a:off x="6870600" y="5145840"/>
                    <a:ext cx="0" cy="236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6870600" y="502560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6870600" y="538308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235640" y="5025960"/>
                    <a:ext cx="0" cy="477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8" name=""/>
                <p:cNvSpPr/>
                <p:nvPr/>
              </p:nvSpPr>
              <p:spPr>
                <a:xfrm>
                  <a:off x="6870600" y="4805280"/>
                  <a:ext cx="0" cy="3646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237440" y="5392800"/>
                  <a:ext cx="0" cy="387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6789600" y="511236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 flipH="1">
              <a:off x="1193400" y="1301760"/>
              <a:ext cx="48387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825480" y="1114560"/>
              <a:ext cx="360360" cy="360360"/>
              <a:chOff x="825480" y="1114560"/>
              <a:chExt cx="360360" cy="360360"/>
            </a:xfrm>
          </p:grpSpPr>
          <p:sp>
            <p:nvSpPr>
              <p:cNvPr id="1833" name=""/>
              <p:cNvSpPr/>
              <p:nvPr/>
            </p:nvSpPr>
            <p:spPr>
              <a:xfrm>
                <a:off x="898560" y="118764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25480" y="111456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415800" y="836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Cos repar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40" y="2413080"/>
              <a:ext cx="935280" cy="322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0600" y="2695680"/>
              <a:ext cx="16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Depozite noi de cen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-357120" y="464508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Times New Roman"/>
                </a:rPr>
                <a:t>Consumatorii industrial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544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3996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1496880" y="2373480"/>
              <a:ext cx="9129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398680" y="2532240"/>
              <a:ext cx="531720" cy="414000"/>
              <a:chOff x="2398680" y="2532240"/>
              <a:chExt cx="531720" cy="414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2398680" y="2532240"/>
                <a:ext cx="531720" cy="4140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414520" y="25639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C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2463840" y="2944800"/>
              <a:ext cx="412560" cy="393840"/>
              <a:chOff x="2463840" y="2944800"/>
              <a:chExt cx="412560" cy="393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2668320" y="2944800"/>
                <a:ext cx="0" cy="117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2466720" y="3052800"/>
                <a:ext cx="204480" cy="95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463840" y="3148200"/>
                <a:ext cx="4125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2662200" y="3148200"/>
                <a:ext cx="207360" cy="936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671560" y="3232080"/>
                <a:ext cx="0" cy="1065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2124000" y="2351160"/>
              <a:ext cx="264960" cy="360360"/>
              <a:chOff x="2124000" y="2351160"/>
              <a:chExt cx="264960" cy="360360"/>
            </a:xfrm>
          </p:grpSpPr>
          <p:sp>
            <p:nvSpPr>
              <p:cNvPr id="1852" name=""/>
              <p:cNvSpPr/>
              <p:nvPr/>
            </p:nvSpPr>
            <p:spPr>
              <a:xfrm>
                <a:off x="213012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12400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558880" y="236376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2919240" y="2373480"/>
              <a:ext cx="93528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998880" y="237348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359240" y="2373480"/>
              <a:ext cx="94464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3325680" y="6308640"/>
              <a:ext cx="258840" cy="258840"/>
              <a:chOff x="3325680" y="6308640"/>
              <a:chExt cx="258840" cy="258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3325680" y="6308640"/>
                <a:ext cx="258840" cy="25884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3373560" y="6439680"/>
                <a:ext cx="156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3584520" y="2351160"/>
              <a:ext cx="806400" cy="987480"/>
              <a:chOff x="3584520" y="2351160"/>
              <a:chExt cx="806400" cy="9874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4" name=""/>
            <p:cNvSpPr/>
            <p:nvPr/>
          </p:nvSpPr>
          <p:spPr>
            <a:xfrm>
              <a:off x="69840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9516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32200" y="3906720"/>
              <a:ext cx="0" cy="27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678040" y="3278160"/>
              <a:ext cx="891720" cy="685440"/>
              <a:chOff x="2678040" y="3278160"/>
              <a:chExt cx="891720" cy="685440"/>
            </a:xfrm>
          </p:grpSpPr>
          <p:sp>
            <p:nvSpPr>
              <p:cNvPr id="1878" name=""/>
              <p:cNvSpPr/>
              <p:nvPr/>
            </p:nvSpPr>
            <p:spPr>
              <a:xfrm>
                <a:off x="3247560" y="3745080"/>
                <a:ext cx="102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63480" y="3652920"/>
                <a:ext cx="206280" cy="19044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678040" y="3278160"/>
                <a:ext cx="579600" cy="685440"/>
                <a:chOff x="2678040" y="3278160"/>
                <a:chExt cx="579600" cy="68544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682360" y="3531960"/>
                  <a:ext cx="575280" cy="431640"/>
                  <a:chOff x="2682360" y="3531960"/>
                  <a:chExt cx="575280" cy="43164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 flipV="1">
                    <a:off x="2682360" y="364032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682360" y="353196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682360" y="385524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3257640" y="3532320"/>
                    <a:ext cx="0" cy="4312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"/>
                <p:cNvSpPr/>
                <p:nvPr/>
              </p:nvSpPr>
              <p:spPr>
                <a:xfrm>
                  <a:off x="2678040" y="3278160"/>
                  <a:ext cx="0" cy="3841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>
              <a:off x="2932200" y="4321080"/>
              <a:ext cx="0" cy="39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3376440" y="3962520"/>
              <a:ext cx="496440" cy="187200"/>
              <a:chOff x="3376440" y="3962520"/>
              <a:chExt cx="496440" cy="187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3376440" y="3962520"/>
                <a:ext cx="208080" cy="1872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455640" y="3998880"/>
                <a:ext cx="417240" cy="117360"/>
                <a:chOff x="3455640" y="3998880"/>
                <a:chExt cx="417240" cy="1173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455640" y="3998880"/>
                  <a:ext cx="412920" cy="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459960" y="4002120"/>
                  <a:ext cx="59760" cy="5508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3459960" y="4061520"/>
                  <a:ext cx="59760" cy="5472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459960" y="4116240"/>
                  <a:ext cx="412920" cy="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 flipV="1">
              <a:off x="3260880" y="3951000"/>
              <a:ext cx="0" cy="119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55840" y="4070520"/>
              <a:ext cx="119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528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448040" y="543960"/>
              <a:ext cx="3187800" cy="1388160"/>
              <a:chOff x="7448040" y="543960"/>
              <a:chExt cx="3187800" cy="138816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7448040" y="54360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9174240" y="54396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868960" y="1052640"/>
                <a:ext cx="345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96520" y="1729440"/>
                <a:ext cx="6901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>
              <a:off x="8193240" y="750960"/>
              <a:ext cx="15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Instalatie de rac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294160" y="2351160"/>
              <a:ext cx="806400" cy="987480"/>
              <a:chOff x="5294160" y="2351160"/>
              <a:chExt cx="806400" cy="98748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5568840" y="2532240"/>
                <a:ext cx="531720" cy="414000"/>
                <a:chOff x="5568840" y="2532240"/>
                <a:chExt cx="531720" cy="4140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556884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58468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5634000" y="2944800"/>
                <a:ext cx="412560" cy="393840"/>
                <a:chOff x="5634000" y="2944800"/>
                <a:chExt cx="412560" cy="393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83848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63688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63400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83236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4172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94160" y="2351160"/>
                <a:ext cx="264960" cy="360360"/>
                <a:chOff x="5294160" y="2351160"/>
                <a:chExt cx="264960" cy="36036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30028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29416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7" name=""/>
            <p:cNvGrpSpPr/>
            <p:nvPr/>
          </p:nvGrpSpPr>
          <p:grpSpPr>
            <a:xfrm>
              <a:off x="5557680" y="1320840"/>
              <a:ext cx="560520" cy="1217520"/>
              <a:chOff x="5557680" y="1320840"/>
              <a:chExt cx="560520" cy="1217520"/>
            </a:xfrm>
          </p:grpSpPr>
          <p:sp>
            <p:nvSpPr>
              <p:cNvPr id="1918" name=""/>
              <p:cNvSpPr/>
              <p:nvPr/>
            </p:nvSpPr>
            <p:spPr>
              <a:xfrm>
                <a:off x="555768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6892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0220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1344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6892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1344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5557680" y="1482840"/>
                <a:ext cx="216000" cy="215640"/>
                <a:chOff x="5557680" y="1482840"/>
                <a:chExt cx="216000" cy="2156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555768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60340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70204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5902200" y="1482840"/>
                <a:ext cx="216000" cy="215640"/>
                <a:chOff x="5902200" y="1482840"/>
                <a:chExt cx="216000" cy="21564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590220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94792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4656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6892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1344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96960" y="1100160"/>
              <a:ext cx="504720" cy="393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92200" y="8175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Instalatie desulfu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569440" y="2532240"/>
              <a:ext cx="909000" cy="752400"/>
              <a:chOff x="8569440" y="2532240"/>
              <a:chExt cx="909000" cy="752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8613720" y="2532240"/>
                <a:ext cx="864720" cy="7524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569440" y="2631960"/>
                <a:ext cx="902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Tratare chimica a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8255160" y="2425680"/>
              <a:ext cx="1511280" cy="93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905600" y="2641680"/>
              <a:ext cx="432000" cy="142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4:03Z</dcterms:created>
  <dc:creator>Cet_Tehnica</dc:creator>
  <dc:description/>
  <dc:language>en-US</dc:language>
  <cp:lastModifiedBy>Cet_Tehnica</cp:lastModifiedBy>
  <dcterms:modified xsi:type="dcterms:W3CDTF">2006-11-14T13:29:25Z</dcterms:modified>
  <cp:revision>18</cp:revision>
  <dc:subject/>
  <dc:title>Slide 1</dc:title>
</cp:coreProperties>
</file>